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F676-D3D5-40BB-930A-94A8F07D87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F6EC-88CB-443D-9361-B63C9F91C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E172-335F-420C-864E-DCE339C27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pands on the behavioral model of managers and lists Mintzberg’s 10 managerial roles that fall into three  categories. Which of these roles can be assisted by information systems and which cann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448F-06FA-4245-84B9-CE6BCC481C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decision-making situations that can be helped by information systems, the information system may fail in helping to solve the problem or lead to a better decision. This slide describes the three main reasons why investments in information systems do not always produce positive results. What is meant by information quality? The text lists seven quality dimensions: accuracy, integrity, consistency, completeness, validity, timeliness, accessibility. Ask students to identify and/or describe these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an example of what a management “filter” might be. Have they ever witnessed someone in a managerial position be unable to recognize or handle a problem because of a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eople within an organization would resist using an informatio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E4B9-4568-4FED-9900-7190AF931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four types of systems that are designed to support decision-making.  Some of these systems were briefly introduced in chapter 2. GDSS are specialized systems that provide a group electronic environment for collective decision making. Ask students to distinguish between MIS, DSS, and ESS.  Why are TPS not considered a decision-support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3B35-D9A9-4C66-B1E2-91C4338EF4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MIS, which were discussed at longer length in chapter 2. Other examples of MIS discussed in the text include PharMark’s extranet MIS, identifying patients with drug-use patterns that place them at risk for adverse outcomes; Black &amp; Veatch’s intranet MIS that tracks construction costs for various projects across the U.S., and Taco Bell’s TACO system that provides information on food, labor, and period-to-date costs for each restaura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B6D4-A474-400D-83EA-D2122CCA11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SS, which were introduced in Chapter 2. Ask students to differentiate between ESS and DSS.  What types of decisions might be handled better by using a model, and what types better by mining dat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6109-F5A5-4EA4-9E9E-C37FF26A2E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case discusses the routine overbooking of flights by airlines to compensate for a high percentage of no-shows. The overbooking is based on computer modeling and analytical predictions. However, while statistically the overbooking can offset no-shows, resistance to overbooking from employees, who must deal with bumped passengers, prevent this solution from being fully successful. This case study illustrates the “people” problems that can work against an otherwise successful information system solu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9A7-EA07-4CE1-AF22-C5244CA9B0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use of information systems to manage its inventory and making stocking decisions. Existing software wasn’t able to analyze sales data  and was outdated and cumbersome, lacking a central repository for company information. Initial attempts to implement new tools were met with employee resistance. Finally, a complete overhaul was  performed, and launched with user training. This case emphasizes the need for centralized data and customizable reporting to enable decision making, as well as management focus on user adop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A1E2-DAC7-4F5B-B9D0-E79DF76D70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in components of a DSS. It is important to note that, because of the need for analyzing and manipulating data, DSS typically operate with extracts or copies of production databases so that using the DSS does not interfere with critical operational system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A0A5-4B6D-46B9-AC19-73AB9AB690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the DSS, and emphasizes the source of DSS data- primarily TPS data and external data, typically in a database separate from production datab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3685-ECD6-4354-AB18-6610DBFF5F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what models are. Ask students what types of situations each are used in. A statistic al model helps establish relationships, such as relating product sales to differences in age, income or other factors. Optimization models determine optimal resource allocation to maximize or minimize specific variables such as cost and time. Forecasting models are used to forecast future conditions, such as sales, given a range of historical data. Sensitivity analysis models ask “what if” questions to determine the impact of changes in one or more facto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D730-7BE7-4083-B21B-F5DEE552EF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focuses on the information systems that support decision-making in a firm and discusses the value of improved decision-making in an organization. Ask the students to describe different types of decisions and whether some types of decisions are less valuable than others. What types of decisions, in a work framework, have students encountered in their own employment situations?  Ask students to reveal what decisions they made on their last job.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CA6A-BD5A-461E-9FEE-920EB37236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s of a sensitivity analysis of changing the sales price of a necktie – it answers the question “What happens to the break-even point if the sales price and the cost to make each unit increase or decr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4B8C-34FE-44E1-BE51-DA1C9F5600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out complex, advanced enterprise software, small businesses can use spreadsheet software and data analysis tools to create information meaningful to the firm. This slide introduces the use of Pivot Tables to analyze data along multiple dimensions. Pivot Tables are one function of the Microsoft Excel spreadsheet software.  Refer students to the Pivot Table Learning Track which has a full illustrated chapter on how to use Pivot Tab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C445-308C-47EA-BC3D-4A6F456F6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icrosoft Excel spreadsheet with sales data from a hypothetical online training company. Data captured includes customer ID, region, payment type, advertising source, amount of purchase, product purchased, and time of day. Excel’s PivotTable function allows you to sort and analyze this data to create meaningful information. Types of questions that you might want to find out from this data include “Where are our customers from?” “What form of payment is more common?” and “Are there regional differences in the average purch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ED2A-D1B4-445C-A2AF-78F20C520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one dimension – it shows where customers come from in terms of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4EEF-D0C9-410B-BBDA-D37E175A4B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two dimensions – it shows where customers come from in terms of region and advertising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5A29-4014-401B-AA94-687C608C8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ata visualization, which can greatly help in the user comprehending patterns and relationships within data. When the data visualization tool analyzes data to present in relation to digitized maps, this is a GIS, a type of DSS. What kind of information could a GIS produce that would be useful to a pizza chain? What about a hospit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656D-55FC-48EB-8AA0-6DEE89600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ap from a GIS-based program that estimates damage from an earthquake. What makes this map more effective than a printed report or a graph?  Think speed of comprehension, and decision mak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C967-61D0-44AA-84B0-97A09886B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ype of DSS, one that is geared to customer decision-making and is typically offered over the Web. What CDSS have students encountered online? Did they find them useful? Why or why not?  Are there any drawbacks to using a CD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0654-E31C-432B-A72B-48BE078806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GDSS, a third type of system that support decision-making. What types of problems might a group encounter, when trying to make a decision as a group? What kinds of decisions might need to be made as a grou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EF20-7A80-4D0F-A158-E10CC0982A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SS, the fourth type of system used to support decision-making. ESS are designed to give managers an overview of their company. What is “balanced” about the balanced scorecard method? An example of a KPI for an online retail firm is the average length of time to deliver a package to a consumer. Ask students to come up with KPIs for sample companies, for example, a laundromat, a university, a video game software manufactur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44F9-B825-4920-84EA-FEF95AFE4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iscusses Eastern Mountain Sports upgrading their management reporting to using a Web-based system that uses executive dashboards to provide high-level views of performance indicators. Ask the students what factors played into EMS’s selection of specific software. What other tools was EMS implementing to enable managers and employees to share tips and discuss the dat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091D-C5FA-4CCE-9694-339879AC5B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of an ESS, and its role as giving management an overview of the firm and its environment. Ask students why the drill-down capability would be important to manage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300-2329-4FAD-9E34-89613BBBE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business value of ESS. Much of the value of ESS is found in their flexibility and ability to analyze, compare, and highlight trends. Using an ESS brings a much greater amount of information about the company and external influences, and in a timelier fashion, to management, and greatly improves management performance. It can also change the role of management, in enabling decisions to be made at lower levels as well as the ability to review lower-level performance more easily. In what cases would pushing decisions to a lower level be an advantage and in what scenarios might this prove unwis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E0A4-247B-4794-A0FE-DC8D98C0A6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used by National Life, which allows senior managers access to statistical reporting and to drill down into data many different way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9235-64F3-4F28-A451-4C036F157B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Rohm &amp; Haas. This ESS is used by more than simply the company executives – the digital dashboard has been customized into over four versions, each suiting a different type of employee, illustrating how ESS can be used across different levels within the same compan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C27B-06A3-423E-A7F6-2EBC0DD3D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Pharmacia corporation. Comparing this with other ESS, you can see that a balanced scorecard for one company might include different KPIs than for another company. Given an example of a type of business, say, a pizza restaurant or a law office, what might be KPIs for that busi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E48F-4BE4-4D61-8AB4-E3DB477EF5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improved decision-making and describes the three types of decisions that are made in an organization.  Table 12-1 in the text illustrates how a small decision made hundreds of times a year can be just as valuable as a single decision made once a year. For example, the decision to schedule production to fill orders, made 150 times  a year, with a value of $10,000 if this decision is improved, can mean an annual value of $1.5 million.  The different levels in an organization tend to make different types of decisions, and require different types of support to make these decisions. Ask students to provide examples of each type of decision. Give students examples of decisions and ask what category the decision fall into and wh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966F-29B6-46D9-90A4-C86F4ED401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ypes of decisions being made at the different levels within an organization. Semi-structured decisions contain a portion that is unstructured and a portion that is structured. Which portion, of the example question for middle managers, is structured and which is unstructured? What would make this question a fully structured question? Ask students to come up with additional examples of decisions at the executive, middle management, and operational levels of the organization, for companies they have worked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AC6E-823C-4FC9-A09B-0C73EB254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types of decision-makers within an organization. Ask students to describe in their own words how to tell what category a decision falls into.  If a structured decision is given separately to two employees, should they each come up with the same answer? What about semistructured decisions? Unstructured decisions? Which of the types of decisions could most easily be handled by computer softw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882A-C9E2-46F6-A72F-DC762BA8DA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process of decision-making as a series of four stages. It is important to note that if an implemented solution doesn’t work, the decider can return to an earlier stage in the process and repeat as needed. Give the students an example decision, such as “what college should I apply to” and ask them to describe the actions taken at each of the four s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D7B2-CEA8-44D2-BA87-467376EA03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ages of decision making introduced in the previous slide, emphasizing that steps can be repeated as needed, depending on the outcome at each stag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CCBF-1949-4623-BBD7-AE9A3C7DC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dea that, while information systems can assist in making decisions by providing information and tools for analysis, they cannot always improve on decisions being made. Ask the students to provide examples of decisions that an information system might not be able to assist in. Is there any similarity among these example decisions, and what does this say about the types of decisions an information system can help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nderstand the complexity and breadth of some of the decisions being made within an organization by looking at the activities of its managers. While the classical model of management sees five functional roles of managers, real-life observation of managers sees far more complexity in managerial activities. Ask the students to recall the five attributes listed in the book as differing greatly from the classical description. Managers (1) perform a great deal of work at an unrelenting pace (2) managerial activities are fragmented; lasting for less than 9 minutes (3) managers prefer current, specific, ad hoc information; (4) manager prefer oral forms of communication and (5) managers give high priority to maintaining a complex web of contacts as an informal information system. Ask students to explain attributes 3, 4, and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fld id="{69BAED34-922D-4B5B-97E1-1DC6BB88A63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8512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nhancing </a:t>
            </a:r>
            <a:br>
              <a:rPr sz="4400"/>
            </a:br>
            <a:r>
              <a:rPr b="1" lang="en-US" sz="4400" spc="-1" strike="noStrike">
                <a:solidFill>
                  <a:srgbClr val="000000"/>
                </a:solidFill>
                <a:latin typeface="Arial"/>
                <a:ea typeface="Times New Roman"/>
              </a:rPr>
              <a:t>Decision Making</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1"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ntzberg’s 10 managerial rol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personal roles: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gurehead</a:t>
            </a:r>
            <a:endParaRPr b="0" lang="en-US" sz="2000" spc="-1" strike="noStrike">
              <a:solidFill>
                <a:srgbClr val="000000"/>
              </a:solidFill>
              <a:latin typeface="Arial"/>
            </a:endParaRPr>
          </a:p>
          <a:p>
            <a:pPr lvl="1" marL="743040" indent="-28584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ead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ai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rve cent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semin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okesper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cis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trepreneu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turbance handl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source alloc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gotiator</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4" name="Rectangle 3"/>
          <p:cNvSpPr/>
          <p:nvPr/>
        </p:nvSpPr>
        <p:spPr>
          <a:xfrm>
            <a:off x="343080" y="1600200"/>
            <a:ext cx="84582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in reasons why i</a:t>
            </a:r>
            <a:r>
              <a:rPr b="1" lang="en-US" sz="2400" spc="-1" strike="noStrike">
                <a:solidFill>
                  <a:srgbClr val="000000"/>
                </a:solidFill>
                <a:latin typeface="Arial"/>
              </a:rPr>
              <a:t>nvestments in information technology do not always produce positive result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quality</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quality decisions require high-quality information</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filters</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have selective attention and have variety of biases that reject information that does not  conform to prior concep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culture</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forces within organizations resist making decisions calling for major change</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9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inds of systems for decision support</a:t>
            </a:r>
            <a:endParaRPr b="0" lang="en-US" sz="28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p:txBody>
      </p:sp>
      <p:sp>
        <p:nvSpPr>
          <p:cNvPr id="98"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nagers monitor and control business by providing information on firm’s performance and address structured problem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duce fixed, regularly scheduled reports based on data from TP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exception reports</a:t>
            </a:r>
            <a:r>
              <a:rPr b="0" lang="en-US" sz="1800" spc="-1" strike="noStrike">
                <a:solidFill>
                  <a:srgbClr val="000000"/>
                </a:solidFill>
                <a:latin typeface="Arial"/>
                <a:ea typeface="Times New Roman"/>
              </a:rPr>
              <a:t>:  Highlighting exceptional conditions, such as sales quotas below anticipated level</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1" lang="en-US" sz="2000" spc="-1" strike="noStrike">
                <a:solidFill>
                  <a:srgbClr val="000000"/>
                </a:solidFill>
                <a:latin typeface="Arial"/>
                <a:ea typeface="Times New Roman"/>
              </a:rPr>
              <a:t>California Pizza Kitchen MI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taurant, compares amount of ingredients used per ordered menu item to predefined portion measurements and identifies restaurants with out-of-line portions</a:t>
            </a:r>
            <a:endParaRPr b="0" lang="en-US" sz="1800" spc="-1" strike="noStrike">
              <a:solidFill>
                <a:srgbClr val="000000"/>
              </a:solidFill>
              <a:latin typeface="Arial"/>
            </a:endParaRPr>
          </a:p>
          <a:p>
            <a:pPr marL="343080" indent="-343080">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ision-support systems (DS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 unstructured and semistructured decis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del-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rliest DSS were heavily model-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voyage-estimating DSS (Chapter 2)</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temporary DSS are data-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LAP and data mining to analyze large pools of data</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business intelligence applications (Chapter 6)</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43080" y="1905120"/>
            <a:ext cx="857232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decision support system being used by airlines to overbook flights working well? Answer from the perspective of the airlines and from the perspective of the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impact on the airlines if they are bumping too many passeng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es, and outputs of this D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eople, organization, and technology factors are responsible for excessive bumping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much of this is a “people” problem? Explain your answer.</a:t>
            </a:r>
            <a:endParaRPr b="0" lang="en-US" sz="2000" spc="-1" strike="noStrike">
              <a:solidFill>
                <a:srgbClr val="000000"/>
              </a:solidFill>
              <a:latin typeface="Arial"/>
            </a:endParaRPr>
          </a:p>
        </p:txBody>
      </p:sp>
      <p:sp>
        <p:nvSpPr>
          <p:cNvPr id="106"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 Many Bumped Fliers: Why?</a:t>
            </a:r>
            <a:endParaRPr b="0" lang="en-US" sz="2400" spc="-1" strike="noStrike">
              <a:solidFill>
                <a:srgbClr val="000000"/>
              </a:solidFill>
              <a:latin typeface="Arial"/>
            </a:endParaRPr>
          </a:p>
        </p:txBody>
      </p:sp>
      <p:sp>
        <p:nvSpPr>
          <p:cNvPr id="107" name="Text Box 1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8" name="Rectangle 1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4"/>
          <p:cNvSpPr/>
          <p:nvPr/>
        </p:nvSpPr>
        <p:spPr>
          <a:xfrm>
            <a:off x="457200" y="220968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Dick’s face with its data tracking and reporting? How did they affect decision making and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id the company do to remedy tho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MicroStrategy an appropriate selection for Dick’s?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s improved reporting solved all of this company’s problems? Explain your answer.</a:t>
            </a:r>
            <a:endParaRPr b="0" lang="en-US" sz="2000" spc="-1" strike="noStrike">
              <a:solidFill>
                <a:srgbClr val="000000"/>
              </a:solidFill>
              <a:latin typeface="Arial"/>
            </a:endParaRPr>
          </a:p>
        </p:txBody>
      </p:sp>
      <p:sp>
        <p:nvSpPr>
          <p:cNvPr id="110" name="Rectangle 5"/>
          <p:cNvSpPr/>
          <p:nvPr/>
        </p:nvSpPr>
        <p:spPr>
          <a:xfrm>
            <a:off x="3430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Turns Dick’s Sporting Goods </a:t>
            </a:r>
            <a:br>
              <a:rPr sz="2400"/>
            </a:br>
            <a:r>
              <a:rPr b="1" lang="en-US" sz="2400" spc="-1" strike="noStrike">
                <a:solidFill>
                  <a:srgbClr val="9f0f10"/>
                </a:solidFill>
                <a:latin typeface="Arial"/>
                <a:ea typeface="Times New Roman"/>
              </a:rPr>
              <a:t>Into a Winner</a:t>
            </a:r>
            <a:endParaRPr b="0" lang="en-US" sz="2400" spc="-1" strike="noStrike">
              <a:solidFill>
                <a:srgbClr val="000000"/>
              </a:solidFill>
              <a:latin typeface="Arial"/>
            </a:endParaRPr>
          </a:p>
        </p:txBody>
      </p:sp>
      <p:sp>
        <p:nvSpPr>
          <p:cNvPr id="111" name="Text Box 1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2"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4" name="Rectangle 3"/>
          <p:cNvSpPr/>
          <p:nvPr/>
        </p:nvSpPr>
        <p:spPr>
          <a:xfrm>
            <a:off x="49536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onents of D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query and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r historical data from number of applications or group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small database or large data warehous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fac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a Web interfac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ystem </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odels, data mining, other analytical tools</a:t>
            </a:r>
            <a:endParaRPr b="0" lang="en-US" sz="2400" spc="-1" strike="noStrike">
              <a:solidFill>
                <a:srgbClr val="000000"/>
              </a:solidFill>
              <a:latin typeface="Arial"/>
            </a:endParaRPr>
          </a:p>
        </p:txBody>
      </p:sp>
      <p:sp>
        <p:nvSpPr>
          <p:cNvPr id="1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verview of a Decision-Support System</a:t>
            </a:r>
            <a:endParaRPr b="0" lang="en-US" sz="2400" spc="-1" strike="noStrike">
              <a:solidFill>
                <a:srgbClr val="000000"/>
              </a:solidFill>
              <a:latin typeface="Arial"/>
            </a:endParaRPr>
          </a:p>
        </p:txBody>
      </p:sp>
      <p:sp>
        <p:nvSpPr>
          <p:cNvPr id="117"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3</a:t>
            </a:r>
            <a:endParaRPr b="0" lang="en-US" sz="1800" spc="-1" strike="noStrike">
              <a:solidFill>
                <a:srgbClr val="000000"/>
              </a:solidFill>
              <a:latin typeface="Arial"/>
            </a:endParaRPr>
          </a:p>
        </p:txBody>
      </p:sp>
      <p:sp>
        <p:nvSpPr>
          <p:cNvPr id="118" name="Text Box 4"/>
          <p:cNvSpPr/>
          <p:nvPr/>
        </p:nvSpPr>
        <p:spPr>
          <a:xfrm>
            <a:off x="685800" y="58071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in components of the DSS are the DSS database, the user interface, and the DSS software system. The DSS database may be a small database residing on a PC or a large data warehouse.</a:t>
            </a:r>
            <a:endParaRPr b="0" lang="en-US" sz="900" spc="-1" strike="noStrike">
              <a:solidFill>
                <a:srgbClr val="000000"/>
              </a:solidFill>
              <a:latin typeface="Arial"/>
            </a:endParaRPr>
          </a:p>
        </p:txBody>
      </p:sp>
      <p:sp>
        <p:nvSpPr>
          <p:cNvPr id="119" name="Text Box 2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0"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21" name="Picture 29" descr="Fig-12-3"/>
          <p:cNvPicPr/>
          <p:nvPr/>
        </p:nvPicPr>
        <p:blipFill>
          <a:blip r:embed="rId2"/>
          <a:stretch/>
        </p:blipFill>
        <p:spPr>
          <a:xfrm>
            <a:off x="3276720" y="1771560"/>
            <a:ext cx="2590560" cy="4019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odel: </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representation that illustrates components or relationships of phenomenon; may be physical, mathematical, or verbal model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al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casting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vity analysis models</a:t>
            </a:r>
            <a:endParaRPr b="0" lang="en-US" sz="24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62" name="Rectangle 7"/>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different types of decisions and the decision-making proc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how information systems support the activities of managers and management decision making.</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decision-support systems (DSS) differ from MIS and how they provide value to the busin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executive support systems (ESS) help senior managers make better decision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luate the role of information systems in helping people working in a group make decisions more efficiently.</a:t>
            </a:r>
            <a:endParaRPr b="0" lang="en-US" sz="2200" spc="-1" strike="noStrike">
              <a:solidFill>
                <a:srgbClr val="000000"/>
              </a:solidFill>
              <a:latin typeface="Arial"/>
            </a:endParaRPr>
          </a:p>
          <a:p>
            <a:pPr marL="343080" indent="-343080">
              <a:spcBef>
                <a:spcPts val="4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nsitivity Analysis</a:t>
            </a:r>
            <a:endParaRPr b="0" lang="en-US" sz="2400" spc="-1" strike="noStrike">
              <a:solidFill>
                <a:srgbClr val="000000"/>
              </a:solidFill>
              <a:latin typeface="Arial"/>
            </a:endParaRPr>
          </a:p>
        </p:txBody>
      </p:sp>
      <p:sp>
        <p:nvSpPr>
          <p:cNvPr id="12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4</a:t>
            </a:r>
            <a:endParaRPr b="0" lang="en-US" sz="1800" spc="-1" strike="noStrike">
              <a:solidFill>
                <a:srgbClr val="000000"/>
              </a:solidFill>
              <a:latin typeface="Arial"/>
            </a:endParaRPr>
          </a:p>
        </p:txBody>
      </p:sp>
      <p:sp>
        <p:nvSpPr>
          <p:cNvPr id="127" name="Text Box 4"/>
          <p:cNvSpPr/>
          <p:nvPr/>
        </p:nvSpPr>
        <p:spPr>
          <a:xfrm>
            <a:off x="1600200" y="5257800"/>
            <a:ext cx="58672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table displays the results of a sensitivity analysis of the effect of changing the sales price of a necktie and the cost per unit on the product’s break-even point. It answers the question, “What happens to the break-even point if the sales price and the cost to make each unit increase or decrease?”</a:t>
            </a:r>
            <a:endParaRPr b="0" lang="en-US" sz="900" spc="-1" strike="noStrike">
              <a:solidFill>
                <a:srgbClr val="000000"/>
              </a:solidFill>
              <a:latin typeface="Arial"/>
            </a:endParaRPr>
          </a:p>
        </p:txBody>
      </p:sp>
      <p:sp>
        <p:nvSpPr>
          <p:cNvPr id="12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graphicFrame>
        <p:nvGraphicFramePr>
          <p:cNvPr id="130" name="Object 8"/>
          <p:cNvGraphicFramePr/>
          <p:nvPr/>
        </p:nvGraphicFramePr>
        <p:xfrm>
          <a:off x="152280" y="2251080"/>
          <a:ext cx="8839440" cy="2406600"/>
        </p:xfrm>
        <a:graphic>
          <a:graphicData uri="http://schemas.openxmlformats.org/presentationml/2006/ole">
            <p:oleObj r:id="rId2" spid="">
              <p:embed/>
              <p:pic>
                <p:nvPicPr>
                  <p:cNvPr id="131" name="Object 8" descr=""/>
                  <p:cNvPicPr/>
                  <p:nvPr/>
                </p:nvPicPr>
                <p:blipFill>
                  <a:blip r:embed="rId3"/>
                  <a:stretch/>
                </p:blipFill>
                <p:spPr>
                  <a:xfrm>
                    <a:off x="152280" y="2251080"/>
                    <a:ext cx="8839440" cy="240660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spreadsheet pivot tables to support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online transactions can be analyzed using Exce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most customers come from? </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re average purchases higher?</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ime of day do people bu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ads work best? </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vot table</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s and summarizes data very quickly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s two or more dimensions of data in a convenient forma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76320" y="1219320"/>
            <a:ext cx="8991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List of Transactions for Online Management Training</a:t>
            </a:r>
            <a:endParaRPr b="0" lang="en-US" sz="2400" spc="-1" strike="noStrike">
              <a:solidFill>
                <a:srgbClr val="000000"/>
              </a:solidFill>
              <a:latin typeface="Arial"/>
            </a:endParaRPr>
          </a:p>
        </p:txBody>
      </p:sp>
      <p:sp>
        <p:nvSpPr>
          <p:cNvPr id="13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5</a:t>
            </a:r>
            <a:endParaRPr b="0" lang="en-US" sz="1800" spc="-1" strike="noStrike">
              <a:solidFill>
                <a:srgbClr val="000000"/>
              </a:solidFill>
              <a:latin typeface="Arial"/>
            </a:endParaRPr>
          </a:p>
        </p:txBody>
      </p:sp>
      <p:sp>
        <p:nvSpPr>
          <p:cNvPr id="137" name="Text Box 4"/>
          <p:cNvSpPr/>
          <p:nvPr/>
        </p:nvSpPr>
        <p:spPr>
          <a:xfrm>
            <a:off x="1066680" y="5867280"/>
            <a:ext cx="6705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list shows a portion of the order transactions for Online Management Training Inc. (OMT Inc.) on October 28, 2008.</a:t>
            </a:r>
            <a:endParaRPr b="0" lang="en-US" sz="900" spc="-1" strike="noStrike">
              <a:solidFill>
                <a:srgbClr val="000000"/>
              </a:solidFill>
              <a:latin typeface="Arial"/>
            </a:endParaRPr>
          </a:p>
        </p:txBody>
      </p:sp>
      <p:sp>
        <p:nvSpPr>
          <p:cNvPr id="13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0" name="Picture 7" descr="Fig-12-5a.tif"/>
          <p:cNvPicPr/>
          <p:nvPr/>
        </p:nvPicPr>
        <p:blipFill>
          <a:blip r:embed="rId2"/>
          <a:stretch/>
        </p:blipFill>
        <p:spPr>
          <a:xfrm>
            <a:off x="1790640" y="1752480"/>
            <a:ext cx="5562720" cy="4008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0" y="1219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Determines Regional Distribution of Customers</a:t>
            </a:r>
            <a:endParaRPr b="0" lang="en-US" sz="2000" spc="-1" strike="noStrike">
              <a:solidFill>
                <a:srgbClr val="000000"/>
              </a:solidFill>
              <a:latin typeface="Arial"/>
            </a:endParaRPr>
          </a:p>
        </p:txBody>
      </p:sp>
      <p:sp>
        <p:nvSpPr>
          <p:cNvPr id="142" name="Text Box 3"/>
          <p:cNvSpPr/>
          <p:nvPr/>
        </p:nvSpPr>
        <p:spPr>
          <a:xfrm>
            <a:off x="1440" y="3352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6</a:t>
            </a:r>
            <a:endParaRPr b="0" lang="en-US" sz="1800" spc="-1" strike="noStrike">
              <a:solidFill>
                <a:srgbClr val="000000"/>
              </a:solidFill>
              <a:latin typeface="Arial"/>
            </a:endParaRPr>
          </a:p>
        </p:txBody>
      </p:sp>
      <p:sp>
        <p:nvSpPr>
          <p:cNvPr id="143" name="Text Box 4"/>
          <p:cNvSpPr/>
          <p:nvPr/>
        </p:nvSpPr>
        <p:spPr>
          <a:xfrm>
            <a:off x="0" y="3643200"/>
            <a:ext cx="15238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ivotTable report was created using Excel 2007 to quickly produce a table showing the relationship between region and number of customers</a:t>
            </a:r>
            <a:endParaRPr b="0" lang="en-US" sz="900" spc="-1" strike="noStrike">
              <a:solidFill>
                <a:srgbClr val="000000"/>
              </a:solidFill>
              <a:latin typeface="Arial"/>
            </a:endParaRPr>
          </a:p>
        </p:txBody>
      </p:sp>
      <p:sp>
        <p:nvSpPr>
          <p:cNvPr id="144"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4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6" name="Picture 7" descr="Fig-12-6a.tif"/>
          <p:cNvPicPr/>
          <p:nvPr/>
        </p:nvPicPr>
        <p:blipFill>
          <a:blip r:embed="rId2"/>
          <a:stretch/>
        </p:blipFill>
        <p:spPr>
          <a:xfrm>
            <a:off x="1905120" y="1828800"/>
            <a:ext cx="6095880" cy="43927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0" y="1219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Examines Customer Regional Distribution and Advertising Source</a:t>
            </a:r>
            <a:endParaRPr b="0" lang="en-US" sz="2000" spc="-1" strike="noStrike">
              <a:solidFill>
                <a:srgbClr val="000000"/>
              </a:solidFill>
              <a:latin typeface="Arial"/>
            </a:endParaRPr>
          </a:p>
        </p:txBody>
      </p:sp>
      <p:sp>
        <p:nvSpPr>
          <p:cNvPr id="148" name="Text Box 3"/>
          <p:cNvSpPr/>
          <p:nvPr/>
        </p:nvSpPr>
        <p:spPr>
          <a:xfrm>
            <a:off x="7920" y="4456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7</a:t>
            </a:r>
            <a:endParaRPr b="0" lang="en-US" sz="1800" spc="-1" strike="noStrike">
              <a:solidFill>
                <a:srgbClr val="000000"/>
              </a:solidFill>
              <a:latin typeface="Arial"/>
            </a:endParaRPr>
          </a:p>
        </p:txBody>
      </p:sp>
      <p:sp>
        <p:nvSpPr>
          <p:cNvPr id="149" name="Text Box 4"/>
          <p:cNvSpPr/>
          <p:nvPr/>
        </p:nvSpPr>
        <p:spPr>
          <a:xfrm>
            <a:off x="0" y="4746600"/>
            <a:ext cx="15238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is pivot table, we are able to examine where customers come from in terms of region and advertising source. It appears nearly 30 percent of the customers respond to </a:t>
            </a:r>
            <a:br>
              <a:rPr sz="900"/>
            </a:br>
            <a:r>
              <a:rPr b="1" lang="en-US" sz="900" spc="-1" strike="noStrike">
                <a:solidFill>
                  <a:srgbClr val="000000"/>
                </a:solidFill>
                <a:latin typeface="Arial"/>
              </a:rPr>
              <a:t>e-mail campaigns, and there are some regional variations</a:t>
            </a:r>
            <a:endParaRPr b="0" lang="en-US" sz="900" spc="-1" strike="noStrike">
              <a:solidFill>
                <a:srgbClr val="000000"/>
              </a:solidFill>
              <a:latin typeface="Arial"/>
            </a:endParaRPr>
          </a:p>
        </p:txBody>
      </p:sp>
      <p:sp>
        <p:nvSpPr>
          <p:cNvPr id="150"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2" name="Picture 7" descr="Fig-12-7a.tif"/>
          <p:cNvPicPr/>
          <p:nvPr/>
        </p:nvPicPr>
        <p:blipFill>
          <a:blip r:embed="rId2"/>
          <a:stretch/>
        </p:blipFill>
        <p:spPr>
          <a:xfrm>
            <a:off x="2209680" y="2057400"/>
            <a:ext cx="5694480" cy="41036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4"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visualization tool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a:r>
            <a:r>
              <a:rPr b="0" lang="en-US" sz="2000" spc="-1" strike="noStrike">
                <a:solidFill>
                  <a:srgbClr val="000000"/>
                </a:solidFill>
                <a:latin typeface="Arial"/>
              </a:rPr>
              <a:t>elp users see patterns and relationships in large amounts of data that would be difficult to discern if data were presented as traditional lists of tex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ic information systems (G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of DSS that use data visualization technology to analyze and display data in form of digitized map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decisions that require knowledge about geographic distribution of people or other resources, e.g.:</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ing local governments calculate emergency response times to natural disasters</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retail chains identify profitable new store locations</a:t>
            </a:r>
            <a:endParaRPr b="0" lang="en-US" sz="1800" spc="-1" strike="noStrike">
              <a:solidFill>
                <a:srgbClr val="000000"/>
              </a:solidFill>
              <a:latin typeface="Arial"/>
            </a:endParaRPr>
          </a:p>
        </p:txBody>
      </p:sp>
      <p:sp>
        <p:nvSpPr>
          <p:cNvPr id="15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4"/>
          <p:cNvSpPr/>
          <p:nvPr/>
        </p:nvSpPr>
        <p:spPr>
          <a:xfrm>
            <a:off x="0" y="3733920"/>
            <a:ext cx="152388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th Carolina used a GIS-based program called HAZUS to estimate and map the regional damage and losses resulting from an earthquake of a given location and intensity. HAZUS estimates the degree and geographic extent of earthquake damage across the state based on inputs of building use, type, and construction materials. The GIS helps the state plan for natural hazards mitigation and response.</a:t>
            </a:r>
            <a:endParaRPr b="0" lang="en-US" sz="900" spc="-1" strike="noStrike">
              <a:solidFill>
                <a:srgbClr val="000000"/>
              </a:solidFill>
              <a:latin typeface="Arial"/>
            </a:endParaRPr>
          </a:p>
        </p:txBody>
      </p:sp>
      <p:sp>
        <p:nvSpPr>
          <p:cNvPr id="157"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9" name="Picture 5" descr="SC12-01a.tif"/>
          <p:cNvPicPr/>
          <p:nvPr/>
        </p:nvPicPr>
        <p:blipFill>
          <a:blip r:embed="rId2"/>
          <a:stretch/>
        </p:blipFill>
        <p:spPr>
          <a:xfrm>
            <a:off x="2063880" y="1523880"/>
            <a:ext cx="6540480" cy="472464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61"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based customer decision-support systems (CDSS):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upport decision-making process of existing or potential custome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information resources and capabilities for interactivity and personalization to help users select products and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earch engines, intelligent agents, online catalogs, Web directories, newsgroup discussions, other tool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bile companies that use CDSS to allow Web site visitors to configure desired ca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 companies with Web-based asset-management tools for custom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3"/>
          <p:cNvSpPr/>
          <p:nvPr/>
        </p:nvSpPr>
        <p:spPr>
          <a:xfrm>
            <a:off x="457200" y="16002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system to facilitate solution of unstructured problems by group of decision mak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 computer and networking hardware, overhead projectors, display scree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SS software collects, documents, ranks, edits and stores participant ideas, respons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facilitator and staff</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increasing meeting size and increasing productiv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atmosphere, guaranteeing anonym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structured methods for organizing and evaluating ideas and preserving meeting results</a:t>
            </a:r>
            <a:endParaRPr b="0" lang="en-US" sz="2000" spc="-1" strike="noStrike">
              <a:solidFill>
                <a:srgbClr val="000000"/>
              </a:solidFill>
              <a:latin typeface="Arial"/>
            </a:endParaRPr>
          </a:p>
        </p:txBody>
      </p:sp>
      <p:sp>
        <p:nvSpPr>
          <p:cNvPr id="164"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165"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67"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ve support systems (E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help executives focus on important performance ind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d scorecard method:</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utcomes on four dimensions: </a:t>
            </a:r>
            <a:endParaRPr b="0" lang="en-US" sz="20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mp; growth</a:t>
            </a:r>
            <a:endParaRPr b="0" lang="en-US" sz="1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 (KPIs) measure each dimens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n ESS, first concern is for senior executives and consultants to develop scorecard and then to automate flow of information for each KPI</a:t>
            </a:r>
            <a:endParaRPr b="0" lang="en-US" sz="2000" spc="-1" strike="noStrike">
              <a:solidFill>
                <a:srgbClr val="000000"/>
              </a:solidFill>
              <a:latin typeface="Arial"/>
            </a:endParaRPr>
          </a:p>
        </p:txBody>
      </p:sp>
      <p:sp>
        <p:nvSpPr>
          <p:cNvPr id="16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tern Mountain Sports Forges a Trail to Better Decis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dated, manual management reporting, data difficult to access, scattered in disparate sources</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Business intelligence software</a:t>
            </a:r>
            <a:r>
              <a:rPr b="1" lang="en-US" sz="2400" spc="-1" strike="noStrike">
                <a:solidFill>
                  <a:srgbClr val="000000"/>
                </a:solidFill>
                <a:latin typeface="Arial"/>
              </a:rPr>
              <a:t> to extract, consolidate, analyze sales and merchandising data; wikis and blogs</a:t>
            </a:r>
            <a:endParaRPr b="0" lang="en-US" sz="2400" spc="-1" strike="noStrike">
              <a:solidFill>
                <a:srgbClr val="000000"/>
              </a:solidFill>
              <a:latin typeface="Constantia"/>
            </a:endParaRPr>
          </a:p>
          <a:p>
            <a:pPr marL="332640" indent="-33264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formation Builders’ WebFOCUS and iWay middleware</a:t>
            </a:r>
            <a:r>
              <a:rPr b="1" lang="en-US" sz="2400" spc="-1" strike="noStrike">
                <a:solidFill>
                  <a:srgbClr val="000000"/>
                </a:solidFill>
                <a:latin typeface="Arial"/>
              </a:rPr>
              <a:t> to create data mart as basis for central series of executive dashboards showing key performance indicator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producing information that allows managers to make better decisions</a:t>
            </a:r>
            <a:endParaRPr b="0" lang="en-US" sz="2400" spc="-1" strike="noStrike">
              <a:solidFill>
                <a:srgbClr val="000000"/>
              </a:solidFill>
              <a:latin typeface="Constantia"/>
            </a:endParaRPr>
          </a:p>
        </p:txBody>
      </p:sp>
      <p:sp>
        <p:nvSpPr>
          <p:cNvPr id="65"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0"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SS in the firm</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both executives and subordin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ll-down capability: Ability to move from summary information to finer levels of detail</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data from different functional systems for firmwide view</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external data, e.g. stock market news, competitor information, industry trends, legislative a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ools for modeling and analysi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status, comparison information about performance</a:t>
            </a:r>
            <a:endParaRPr b="0" lang="en-US" sz="2000" spc="-1" strike="noStrike">
              <a:solidFill>
                <a:srgbClr val="000000"/>
              </a:solidFill>
              <a:latin typeface="Arial"/>
            </a:endParaRPr>
          </a:p>
          <a:p>
            <a:pPr lvl="1" marL="743040" indent="-28584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3"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xecutive suppor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s executive to review more data in less time with greater clarity than paper-based system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actions identified and carried out earlier</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management performanc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upper management’s span of contro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enables decision making to be decentralized and take place at lower operating levels</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executives’ ability to monitor activities of lower units reporting to them</a:t>
            </a:r>
            <a:endParaRPr b="0" lang="en-US" sz="2000" spc="-1" strike="noStrike">
              <a:solidFill>
                <a:srgbClr val="000000"/>
              </a:solidFill>
              <a:latin typeface="Arial"/>
            </a:endParaRPr>
          </a:p>
        </p:txBody>
      </p:sp>
      <p:sp>
        <p:nvSpPr>
          <p:cNvPr id="1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6"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Lif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arkets life insurance, health insurance, and retirement/investment products executive information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information system:</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senior managers to access corporate databases through Web interfac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premium dollars by salesperson</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ed users can drill down into these data to see product, agent, and client for each sal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examined  by region, by product, and by broker, and accessed for monthly, quarterly, and annual time periods</a:t>
            </a:r>
            <a:endParaRPr b="0" lang="en-US" sz="1800" spc="-1" strike="noStrike">
              <a:solidFill>
                <a:srgbClr val="000000"/>
              </a:solidFill>
              <a:latin typeface="Arial"/>
            </a:endParaRPr>
          </a:p>
        </p:txBody>
      </p:sp>
      <p:sp>
        <p:nvSpPr>
          <p:cNvPr id="1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9" name="Rectangle 3"/>
          <p:cNvSpPr/>
          <p:nvPr/>
        </p:nvSpPr>
        <p:spPr>
          <a:xfrm>
            <a:off x="380880" y="1600200"/>
            <a:ext cx="8382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hm &amp; Haa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emical and specialty materials firm</a:t>
            </a:r>
            <a:r>
              <a:rPr b="0" lang="en-US" sz="2000" spc="-1" strike="noStrike">
                <a:solidFill>
                  <a:srgbClr val="000000"/>
                </a:solidFill>
                <a:latin typeface="Arial"/>
              </a:rPr>
              <a:t> with  13 business units and over 300 information system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based </a:t>
            </a:r>
            <a:r>
              <a:rPr b="1" lang="en-US" sz="2000" spc="-1" strike="noStrike">
                <a:solidFill>
                  <a:srgbClr val="000000"/>
                </a:solidFill>
                <a:latin typeface="Arial"/>
                <a:ea typeface="Times New Roman"/>
              </a:rPr>
              <a:t>digital dashboard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on single screen all of the critical measurements for monitoring compan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KPIs (e.g. gross profit) that managers can drill down on for details (e.g. sales, cost of sal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ized for multiple levels of management</a:t>
            </a:r>
            <a:endParaRPr b="0" lang="en-US" sz="20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ecutive Dashboard – for executives, includes all major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ulse – includes three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ing and Analysis Toolkit – set of analysis tool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ysis Accelerator – standard sales, gross-profit analyses</a:t>
            </a:r>
            <a:endParaRPr b="0" lang="en-US" sz="1800" spc="-1" strike="noStrike">
              <a:solidFill>
                <a:srgbClr val="000000"/>
              </a:solidFill>
              <a:latin typeface="Arial"/>
            </a:endParaRPr>
          </a:p>
        </p:txBody>
      </p:sp>
      <p:sp>
        <p:nvSpPr>
          <p:cNvPr id="1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82" name="Rectangle 3"/>
          <p:cNvSpPr/>
          <p:nvPr/>
        </p:nvSpPr>
        <p:spPr>
          <a:xfrm>
            <a:off x="495360" y="1600200"/>
            <a:ext cx="7734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acia Corporation: </a:t>
            </a:r>
            <a:r>
              <a:rPr b="0" lang="en-US" sz="2000" spc="-1" strike="noStrike">
                <a:solidFill>
                  <a:srgbClr val="000000"/>
                </a:solidFill>
                <a:latin typeface="Arial"/>
              </a:rPr>
              <a:t>Global pharmaceutical firm</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s $2 million on research and development annually</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d scorecard show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f U.S. or European clinical operations in relation to corporate objectiv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tion rate of new compounds under stud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ents in clinical tria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unds allocated for research are being spent</a:t>
            </a:r>
            <a:endParaRPr b="0" lang="en-US" sz="2000" spc="-1" strike="noStrike">
              <a:solidFill>
                <a:srgbClr val="000000"/>
              </a:solidFill>
              <a:latin typeface="Arial"/>
            </a:endParaRPr>
          </a:p>
        </p:txBody>
      </p:sp>
      <p:sp>
        <p:nvSpPr>
          <p:cNvPr id="1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85" name="" descr=""/>
          <p:cNvPicPr/>
          <p:nvPr/>
        </p:nvPicPr>
        <p:blipFill>
          <a:blip r:embed="rId2"/>
          <a:stretch/>
        </p:blipFill>
        <p:spPr>
          <a:xfrm>
            <a:off x="343080" y="971640"/>
            <a:ext cx="8422920" cy="2747880"/>
          </a:xfrm>
          <a:prstGeom prst="rect">
            <a:avLst/>
          </a:prstGeom>
          <a:ln w="9360">
            <a:solidFill>
              <a:srgbClr val="ffffff"/>
            </a:solidFill>
            <a:miter/>
          </a:ln>
        </p:spPr>
      </p:pic>
      <p:sp>
        <p:nvSpPr>
          <p:cNvPr id="18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improved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hundreds of thousands of “small” decisions adds up to large annual value for the busines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decision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a:t>
            </a:r>
            <a:r>
              <a:rPr b="0" lang="en-US" sz="2000" spc="-1" strike="noStrike">
                <a:solidFill>
                  <a:srgbClr val="000000"/>
                </a:solidFill>
                <a:latin typeface="Arial"/>
              </a:rPr>
              <a:t>Decision maker must provide judgment, evaluation, and insight to solve probl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a:t>
            </a:r>
            <a:r>
              <a:rPr b="0" lang="en-US" sz="2000" spc="-1" strike="noStrike">
                <a:solidFill>
                  <a:srgbClr val="000000"/>
                </a:solidFill>
                <a:latin typeface="Arial"/>
              </a:rPr>
              <a:t>Repetitive and routine; involve definite procedure for handling so they do not have to be treated each time as new</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structured: </a:t>
            </a:r>
            <a:r>
              <a:rPr b="0" lang="en-US" sz="2000" spc="-1" strike="noStrike">
                <a:solidFill>
                  <a:srgbClr val="000000"/>
                </a:solidFill>
                <a:latin typeface="Arial"/>
              </a:rPr>
              <a:t>Only part of problem has clear-cut answer provided by accepted procedure</a:t>
            </a:r>
            <a:endParaRPr b="0" lang="en-US" sz="2000" spc="-1" strike="noStrike">
              <a:solidFill>
                <a:srgbClr val="000000"/>
              </a:solidFill>
              <a:latin typeface="Arial"/>
            </a:endParaRPr>
          </a:p>
        </p:txBody>
      </p:sp>
      <p:sp>
        <p:nvSpPr>
          <p:cNvPr id="6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0"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nior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any un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hould we enter a new marke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 but these may include unstructured compon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y is order fulfillment report showing decline in Minneapolis?</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managers, rank and file employee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oes customer meet criteria for credit? </a:t>
            </a: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Requirements of Key Decision-Making Groups in a Firm</a:t>
            </a:r>
            <a:endParaRPr b="0" lang="en-US" sz="2400" spc="-1" strike="noStrike">
              <a:solidFill>
                <a:srgbClr val="000000"/>
              </a:solidFill>
              <a:latin typeface="Arial"/>
            </a:endParaRPr>
          </a:p>
        </p:txBody>
      </p:sp>
      <p:sp>
        <p:nvSpPr>
          <p:cNvPr id="7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1</a:t>
            </a:r>
            <a:endParaRPr b="0" lang="en-US" sz="1800" spc="-1" strike="noStrike">
              <a:solidFill>
                <a:srgbClr val="000000"/>
              </a:solidFill>
              <a:latin typeface="Arial"/>
            </a:endParaRPr>
          </a:p>
        </p:txBody>
      </p:sp>
      <p:sp>
        <p:nvSpPr>
          <p:cNvPr id="74" name="Text Box 4"/>
          <p:cNvSpPr/>
          <p:nvPr/>
        </p:nvSpPr>
        <p:spPr>
          <a:xfrm>
            <a:off x="1905120" y="571824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managers, middle managers, operational managers, and employees have different types of decisions and information requirements.</a:t>
            </a:r>
            <a:endParaRPr b="0" lang="en-US" sz="900" spc="-1" strike="noStrike">
              <a:solidFill>
                <a:srgbClr val="000000"/>
              </a:solidFill>
              <a:latin typeface="Arial"/>
            </a:endParaRPr>
          </a:p>
        </p:txBody>
      </p:sp>
      <p:sp>
        <p:nvSpPr>
          <p:cNvPr id="75" name="Text Box 1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77" name="Picture 20" descr="Fig-12-1"/>
          <p:cNvPicPr/>
          <p:nvPr/>
        </p:nvPicPr>
        <p:blipFill>
          <a:blip r:embed="rId2"/>
          <a:stretch/>
        </p:blipFill>
        <p:spPr>
          <a:xfrm>
            <a:off x="1741320" y="2133720"/>
            <a:ext cx="5661360" cy="3454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9"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t>
            </a:r>
            <a:r>
              <a:rPr b="1" lang="en-US" sz="2400" spc="-1" strike="noStrike">
                <a:solidFill>
                  <a:srgbClr val="000000"/>
                </a:solidFill>
                <a:latin typeface="Arial"/>
              </a:rPr>
              <a:t>our stages of decision making</a:t>
            </a:r>
            <a:endParaRPr b="0" lang="en-US" sz="24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ing, identifying, and understanding the problems occurring in the organization</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nd exploring solutions to the problem</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among solution alternatives</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chosen alternative work and continuing to monitor how well solution is working</a:t>
            </a:r>
            <a:endParaRPr b="0" lang="en-US" sz="18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ages in Decision Making</a:t>
            </a:r>
            <a:endParaRPr b="0" lang="en-US" sz="2400" spc="-1" strike="noStrike">
              <a:solidFill>
                <a:srgbClr val="000000"/>
              </a:solidFill>
              <a:latin typeface="Arial"/>
            </a:endParaRPr>
          </a:p>
        </p:txBody>
      </p:sp>
      <p:sp>
        <p:nvSpPr>
          <p:cNvPr id="8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2</a:t>
            </a:r>
            <a:endParaRPr b="0" lang="en-US" sz="1800" spc="-1" strike="noStrike">
              <a:solidFill>
                <a:srgbClr val="000000"/>
              </a:solidFill>
              <a:latin typeface="Arial"/>
            </a:endParaRPr>
          </a:p>
        </p:txBody>
      </p:sp>
      <p:sp>
        <p:nvSpPr>
          <p:cNvPr id="83" name="Text Box 4"/>
          <p:cNvSpPr/>
          <p:nvPr/>
        </p:nvSpPr>
        <p:spPr>
          <a:xfrm>
            <a:off x="76320" y="60357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ecision-making process is broken down into four stages.</a:t>
            </a:r>
            <a:endParaRPr b="0" lang="en-US" sz="900" spc="-1" strike="noStrike">
              <a:solidFill>
                <a:srgbClr val="000000"/>
              </a:solidFill>
              <a:latin typeface="Arial"/>
            </a:endParaRPr>
          </a:p>
        </p:txBody>
      </p:sp>
      <p:sp>
        <p:nvSpPr>
          <p:cNvPr id="8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5"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86" name="Picture 10" descr="Fig-12-2"/>
          <p:cNvPicPr/>
          <p:nvPr/>
        </p:nvPicPr>
        <p:blipFill>
          <a:blip r:embed="rId2"/>
          <a:stretch/>
        </p:blipFill>
        <p:spPr>
          <a:xfrm>
            <a:off x="2478240" y="1828800"/>
            <a:ext cx="418752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8"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can only assist in some of the roles played by manager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al model of management</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functions of manager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organizing, coordinating, deciding, and controlling</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contemporary behavioral model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behavior of managers appears to be less systematic, more informal, less reflective, more reactive, and less well organized than in classical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tzberg’s behavioral model of managers defines 10 managerial roles falling into 3 categories</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43Z</dcterms:modified>
  <cp:revision>787</cp:revision>
  <dc:subject/>
  <dc:title>PowerPoint Presentation</dc:title>
</cp:coreProperties>
</file>