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D8E4-5BAF-41FE-8C75-5C790B29CE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1750-CD7B-4262-B233-432D8C8046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78FA-63DB-42DE-8354-3C8616C9F4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hree slides discuss ways in which business processes can be managed in incremental or ongoing ways, rather than as a massive BPR systems project. This slide discusses one method, the use of BPM. The text discusses the example of American National Insurance Company, which used BPM to streamline customer service processes across four business groups. BPM built rules to guide service reps through a single view of customer information across multiple systems, eliminating the need to access multiple applications when handling customer requests. This increased workload capacity of the representatives 19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B11F-A7C4-417E-BA80-A3B350D994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ypical capabilities of business process management software. Ask students if this type of methodology, (BPM), would be suitable to certain types of industries or companies more than others – and if so, what typ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5B93-9340-47DD-AE21-30C00A6D8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discuss a second method of managing incremental or ongoing attention to improving business processes: quality management. Ask students to explain why the earlier a problem is eliminated, the less money it costs. What types of costs might result from a quality problem in customer profile data? In the packaging of a household clea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quality problems in products or services have students encountered in their own experienc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10C0-2B97-4820-B4EB-C50FA3756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wo main methods of improving quality. Ask students to evaluate the two methods. Would one be better in some industries or types of businesses over the other method? Which method would be better for a restaurant chain? Which would be better for a clothing manufacturer? Wh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EB17-2FF5-4792-B4C3-196C2D0898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information systems can play in improving quality. Why does simplification help improve quality? Why does a reduce cycle time help improve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mpanies come up with the standards to set for benchmarking. (Industry standards, standards set by other companies, internal standards, or a combination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DADB-110F-46C8-A9BB-3500CB9D09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the activities involved in system development – the creation of a new (or improvements to an existing) information system. The activities listed are performed in order – the first two, systems analysis and systems design are preparatory steps for the system. The last four steps translate the design of the system into act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 –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546F-8674-41E4-A60D-3A42F4AA9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ix core activities of systems building. Ask students why these activities are represented as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lar nature indicates that 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EB8B-039E-405B-8129-5FB6467392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describe the first stage of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s analyst first creates a road map of the existing organization and systems. What does this road map consist of? (Identifying primary owners and users of data along with existing hardware and software.) What constitutes a primary owner of data? Ask students how an analyst would determine if a problem existed with existing systems. (He/she would examine documents, work papers, procedures, observe system operations, interview ke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1B74-D728-475A-9824-1120E114D2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first stage in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information requirements is an essential part of analysis. A system designed around the wrong set of requirements will either have to be discarded because of poor performance or will need to undergo major modifications. As the text discusses later in the chapter, user involvement is essential for gathering requirements. Why is this so? If user involvement is central to gathering information requirements, why should technical specialists, such as systems analysts, also be involved in this proce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9B1A-CECA-41C3-9FA6-74028AD8FF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econd stage of systems development, system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explains that like houses or buildings, information systems may have many possible designs. Each design represents a unique blend of all technical and organizational components. What makes one design superior to others is the eas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with which it fulfills user requirements within a specific set of technical, organizational, financial, and time constraints.”  Given an identical systems analysis, what elements might be different in a system design created by two different systems design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094A-C52C-4E00-84CC-BCED3B7CA1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types of organizational changes that are implemented by new information system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sk students to discuss what types of organizational change this might br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B618-7A4E-460B-9F85-2197EDA09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various types of specifications that must be detailed and describe in a systems design.  From this it is easy to see how complex designing a system can be, and how many opportunities there are for mistakes to creep in. Problems in any one of these areas could produce a less-than optimal system and losses in efficiency and productivity. Select a few of the specifications here and ask students what types of problems could result from an inadequate definition of that specific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80AC-798B-4837-897E-97C18E4BEB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headwear manufacturer Dorfman Pacific’s successful implementation of  a new information system to streamline their ineffective order-fulfillment process at their warehouse. It illustrates a cross-functional approach, in which the project was seen as a business project rather than an IT project, and relied on in-depth analysis of the problems involv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12C6-7D04-4F51-B213-52F718890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ird and fourth stages of systems development, programming and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today do not perform their own programming, but purchase software or outsource programming to a vendor. In outsourcing, who would be responsible for the testing, the vendor or the purchasing company? Would any testing be needed when software is purchased as a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importance of testing is typically underrated in systems project planning, and the risks resulting from inadequate testing are enorm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f system testing is performed that checks the entire system, would unit testing b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8A58-F0BB-4645-84C1-40E6EAB9F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ortion of a test plan. Ask students to describe what the columns of this table mean. It looks at six different possible situations, given a user of the system attempting to change a record in the database, from trying to change an existing address in the system (2.1) to not completing the record change (2.6). Ask students what they understand about system testing from looking at this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5DE1-CBEC-4FF0-8A18-EFB3BD3B61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fth stage of systems development, conversion. Ask students to describe each of the strategies. What would make one approach more appropriate than another? Is there any case in which a direct cutover would be the optimal strateg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9B42-35E6-41A8-B9A3-936AB6653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ixth and final stage of systems development, production and maintenance, and shows that an information system is never “finished.” Ask the students to discuss if any of the types of maintenance work listed here could be eliminated by better analysis and desig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569D-6DC9-41B7-BF1E-6EFA0D0C3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six stages in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information requirements and design specification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546B-46A0-4506-9D3E-A58B06725F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two most prominent methodologies for modeling systems and introduces the core concepts behind a structured methodology. Ask students what a process is or to give an example of a process. What does it mean to “separate data from process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2AB5-70F3-4697-BF33-EFB224EAB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structured methodology, looking at the tools and techniques that it uses to model an information system. An example data flow diagram is shown on the next slide, so it may be helpful to move to that slide to discuss thes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dictionary is needed so that system builders know exactly what data is stored and manip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specifications express the logic that is used when one piece of data is transformed by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ucture chart looks at the main function of the system, breaks it down into subfunctions, breaks subfunctions into further functions, until the smallest level of detail is reached. Ask students to give an example of what the smallest level of detail might look like, for example, in a university system managing student grades and repor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8E94-B1BC-4FBE-81DA-0DA592FBC9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C8B2-6F8E-48FC-A8E2-FCA404C0D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examines the information systems for drop-ship order fulfillment of a business-computing supplier. (In drop-shipping, the retailer doesn’t stock goods but transfers customer orders to independent distributors.) This case study illustrates some of the typical activities in systems development. Ask students what these PC Connection had to do to plan the information system (evaluating alternative solutions, determining requirements, etc.)  What were organizational changes that had to be made to implement the new syst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980E-FBA4-4292-8BD1-FDE78C57A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high-level structure chart. Note that this is high-level – and subfunctions exist for the functions “Get inputs,” “Validate inputs,” etc. What might be a subfunction for “Calculate gross p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4CE7-40AD-43E7-BD58-C9246F2835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second of the two main system modeling methodologies – object-oriented development. A key concept here is that of class and inheritance. Ask students what a class is – (general category of similar objects) and to describe objects that might be in the same class. For example, what objects might be in the category “Degrees” in a university’s information system?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1CEF-87B1-437F-A5CF-487F651EC9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class and inheritance in object-oriented development. The Class employee allows subclasses to be created using the “template” or superclass “Employee” and use the processes and properties defined for Employee. Subclasses can use properties of their superclass and also add their own properties. If a subclass “Intern” was added to this chart, what unique properties might it hav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95F2-8EC8-402D-9F21-404C20489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bject-oriented development, highlighting unique considerations during the systems development process.  Ask students to perform some rudimentary systems analysis and design for an information system that managed inventory for a department store. What classes might be created? What properties would they have? What subclasses would there be for one of these classes and what properties would they inh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59BA-6F41-4178-BA90-26909D23B0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F6CC-55C3-43FB-B48E-64C0D68C45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methodology and object-oriented development describe the structure of the software applications used by information systems. The next slides discuss different ways in which the work by the teams involved in creating this software can be organ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valuate which of these methods, if implemented effectively, they think might produce the highest ROI. Which might be the riski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5C62-055F-4D91-8E7E-E0A7F0E80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832E-59C9-4AEF-9DC1-B6CE81E43D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ethod of systems building, prototyping. It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8734-B323-4FFF-A1EB-238AF21CCF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FEF2-F318-45EB-A13E-3B66BD3FB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prototyping, listing the advantages and disadvantages to using this method of build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students to explain these advantages and disadvantages. For example, why is prototyping useful if there is uncertainty in requirements?  What kinds of essential steps might be glossed o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DA83-9AFD-438D-8CD7-90BE8BB502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different types of organizational change that information systems can enable. You can ask students to give examples of each type of change within the context of an example of a business, for example, a pizza chain. Or, provide examples of change, and ask students to determine what category that change falls into. For example, what type of organizational change is involved when a business implements its first accounting software? What kind of change was brought by PC Connection’s new system, described on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7270-CBE8-40A8-82AC-823039A384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alternative method in systems building: end-user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fourth-generation languages are less “procedural” than conventional programming languages. What is an example of a conventional programming language? Ask students to describe or give an example of each type of fourth generation language category.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A0B2-72AA-470D-8CDD-BC2FB239C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d-user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091F-C8EC-4640-94A4-D8C5D63C44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alternative in systems building, the use of application software packages. 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 Step through and explain (or have students explain) the evaluation criteria for a package. For example, you would want to outline the functions you need from the package and determine whether the software package provides t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36AC-049B-4161-AA8D-1C9087C57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fifth alternative in systems building –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S and cloud computing were introduced in chapter 5. Have students describe these types of outsourcing in their own words.  Refer students to the Learning Tracks on outsourcing and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BA50-6B71-4D4A-AE3D-BEA04232B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utsourcing. It is important to emphasize the amount of work involved in partnering and sharing work with a vendor. It may take anywhere from 3 months to a year to fully transfer work to a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types of hidden costs can students identify?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17B6-177E-4A17-85C8-FEE74B8A44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EA88-100D-404E-BEC3-12A7B6FD7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Chrysler’s outsourcing of  IT services to a company, Tata Consultancy Services, that is a unit of a competitor,  Tata Motors, an Indian automotive company.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86B5-030D-4B38-86F4-AD48123CB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application development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 are used in RAD– CASE tools, prototyping, etc.</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112F-4C58-4D76-97B4-35FB5FA54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D is a second technique for accelerating the systems building proces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658D-57D0-42C7-868E-262978DD31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ile development is a third technique used to accelerate the systems building process. Could all three of the techniques described be used at the same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0F96-C1C8-443B-AD8B-5F900B0EE5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types of change, identifying them according to the potential return on investment as well as level of risk.  What makes automation a low risk? What makes a paradigm shift or reengineering a high risk? It is important to note that BPR and paradigm shifts have high failure rates. Ask the students why this is so. (Organizational change is difficult to orchestrat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C32C-F078-4A92-A209-D266E1392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A5B4-458C-42ED-8EB3-38E142424A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rge returns on investment that can be received by radically reengineering existing business processes, as exemplified by the restructuring of the home mortgage application process.  Ask students what took so long in the original business process of applying for a mortgage. (Paper application, individual reviews from 6-8 departments in sequence). What is different about the new process (Digital application, departments access and approve concurrently.) The banks used work flow and document management software to implement these new procedures, which allowed electronic routing of documents and automating the process.  What are some of the other advantages of document management software (immediate transfer, indexing documents for user retrieval, two people being able to simultaneously working on the docu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9C98-E640-4697-BD87-9F5EBE41E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graphic illustrates the process of applying for an approving a home mortgage prior to reengineering (the graphic is continued on the next page). This portion emphasizes the sequential nature of the task as a “desk-to-desk” approach. Besides the time taken for this process, what are other disadvantages of the desk-to-desk approa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549E-F819-4D77-B1DB-9435A9D56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ortgage application process after process reengineering, which as reduced some 11 plus stages to three or four. What are the elements that have allowed these steps to occur? (Use of digital documents and document management software, ability for steps to be taken concurrently.)  Ask the students if a team approach (“work cell”) is always superior to a desk-to-desk approach. In what cases might a desk-to-desk approach be necessary or preferable? (If the work at one step must be completed prior to another ste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D921-B027-4B4B-8DF1-22E143B8BD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iskiness of business process reengineering and the need to properly manage it in order for BPR to be effective. Ask students why each of these three steps listed is important.  For example, why is it important to determine the right business process to change rather than all business processes (some processes may not yield time or cost savings, you could spend too much money on working on all processes, some processes may already be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n example of a business process and ask how the process could be measured. For example, how would you measure the business process of a customer ordering a meal? Of a kitchen preparing and delivering that meal? What about the business process of hiring a new employ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fld id="{EA24CC88-0364-4787-88D2-041D92202CDB}"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4290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77724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management (BPM)</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r>
              <a:rPr b="0" lang="en-US" sz="2400" spc="-1" strike="noStrike">
                <a:solidFill>
                  <a:srgbClr val="000000"/>
                </a:solidFill>
                <a:latin typeface="Arial"/>
              </a:rPr>
              <a:t>elps firms manage incremental process change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ocess-mapping tools to:</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document existing processes </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odels of improved processes that can be translated into software system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impact of process changes on key business performance indicator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 management (cont.)</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low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ing nota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asurement and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standardizing business processes so they can be continually manipulated</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onitoring and analytic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erify process performance has improved and measure impact of process changes on key business performance indicators</a:t>
            </a:r>
            <a:endParaRPr b="0" lang="en-US" sz="1800" spc="-1" strike="noStrike">
              <a:solidFill>
                <a:srgbClr val="000000"/>
              </a:solidFill>
              <a:latin typeface="Arial"/>
            </a:endParaRPr>
          </a:p>
        </p:txBody>
      </p:sp>
      <p:sp>
        <p:nvSpPr>
          <p:cNvPr id="9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3"/>
          <p:cNvSpPr/>
          <p:nvPr/>
        </p:nvSpPr>
        <p:spPr>
          <a:xfrm>
            <a:off x="457200" y="1600200"/>
            <a:ext cx="73915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Quality management:</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ne-tuning </a:t>
            </a:r>
            <a:r>
              <a:rPr b="0" lang="en-US" sz="2400" spc="-1" strike="noStrike">
                <a:solidFill>
                  <a:srgbClr val="000000"/>
                </a:solidFill>
                <a:latin typeface="Arial"/>
              </a:rPr>
              <a:t>business processes to improve quality in their products, services, and opera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in the business cycle a problem is eliminated, the less it costs the company  </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mprovements raise level of product and service quality as well as lower costs</a:t>
            </a:r>
            <a:endParaRPr b="0" lang="en-US" sz="24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Quality Management (TQM):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hievement of quality control is end in itself</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s expected to contribute to improvement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continuous improvements rather than dramatic bursts of change</a:t>
            </a:r>
            <a:endParaRPr b="0" lang="en-US" sz="20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sigma: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measure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efects per million opportunities</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tatistical analysis tools to detect flaws in the execution of an existing process and make minor adjustment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support quality improvements by helping fir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products or proces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improvements based on customer demand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ycl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quality and precision of design and produc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a:t>
            </a:r>
            <a:r>
              <a:rPr b="1" lang="en-US" sz="2000" spc="-1" strike="noStrike">
                <a:solidFill>
                  <a:srgbClr val="000000"/>
                </a:solidFill>
                <a:latin typeface="Arial"/>
              </a:rPr>
              <a:t>benchmarking</a:t>
            </a:r>
            <a:r>
              <a:rPr b="0" lang="en-US" sz="2000" spc="-1" strike="noStrike">
                <a:solidFill>
                  <a:srgbClr val="000000"/>
                </a:solidFill>
                <a:latin typeface="Arial"/>
              </a:rPr>
              <a:t> standard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ing</a:t>
            </a:r>
            <a:r>
              <a:rPr b="0" lang="en-US" sz="1800" spc="-1" strike="noStrike">
                <a:solidFill>
                  <a:srgbClr val="000000"/>
                </a:solidFill>
                <a:latin typeface="Arial"/>
              </a:rPr>
              <a:t>: Setting strict standards for products, services, and other activities, and then measuring performance against those standards</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
        <p:nvSpPr>
          <p:cNvPr id="110"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velopment: </a:t>
            </a:r>
            <a:r>
              <a:rPr b="0" lang="en-US" sz="2400" spc="-1" strike="noStrike">
                <a:solidFill>
                  <a:srgbClr val="000000"/>
                </a:solidFill>
                <a:latin typeface="Arial"/>
              </a:rPr>
              <a:t>Activities that go into producing an information system solution to an organizational problem or opportunity</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alysi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desig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maintenance</a:t>
            </a:r>
            <a:endParaRPr b="0" lang="en-US" sz="20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Systems Development Process</a:t>
            </a:r>
            <a:endParaRPr b="0" lang="en-US" sz="2400" spc="-1" strike="noStrike">
              <a:solidFill>
                <a:srgbClr val="000000"/>
              </a:solidFill>
              <a:latin typeface="Arial"/>
            </a:endParaRPr>
          </a:p>
        </p:txBody>
      </p:sp>
      <p:sp>
        <p:nvSpPr>
          <p:cNvPr id="11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3</a:t>
            </a:r>
            <a:endParaRPr b="0" lang="en-US" sz="1800" spc="-1" strike="noStrike">
              <a:solidFill>
                <a:srgbClr val="000000"/>
              </a:solidFill>
              <a:latin typeface="Arial"/>
            </a:endParaRPr>
          </a:p>
        </p:txBody>
      </p:sp>
      <p:sp>
        <p:nvSpPr>
          <p:cNvPr id="114" name="Text Box 4"/>
          <p:cNvSpPr/>
          <p:nvPr/>
        </p:nvSpPr>
        <p:spPr>
          <a:xfrm>
            <a:off x="2743200" y="5867280"/>
            <a:ext cx="358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ilding a system can be broken down into six core activities.</a:t>
            </a:r>
            <a:endParaRPr b="0" lang="en-US" sz="900" spc="-1" strike="noStrike">
              <a:solidFill>
                <a:srgbClr val="000000"/>
              </a:solidFill>
              <a:latin typeface="Arial"/>
            </a:endParaRPr>
          </a:p>
        </p:txBody>
      </p:sp>
      <p:sp>
        <p:nvSpPr>
          <p:cNvPr id="11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117" name="Picture 8" descr="Fig-13-3.tif"/>
          <p:cNvPicPr/>
          <p:nvPr/>
        </p:nvPicPr>
        <p:blipFill>
          <a:blip r:embed="rId2"/>
          <a:stretch/>
        </p:blipFill>
        <p:spPr>
          <a:xfrm>
            <a:off x="2593800" y="1828800"/>
            <a:ext cx="3956400" cy="3963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3059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analys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problem that will be solved by syste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problem and identifying cause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ing solu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posal report identifies and examines alternative solution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t>
            </a:r>
            <a:r>
              <a:rPr b="1" lang="en-US" sz="1800" spc="-1" strike="noStrike">
                <a:solidFill>
                  <a:srgbClr val="000000"/>
                </a:solidFill>
                <a:latin typeface="Arial"/>
              </a:rPr>
              <a:t>information requirements</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1" lang="en-US" sz="2000" spc="-1" strike="noStrike">
                <a:solidFill>
                  <a:srgbClr val="000000"/>
                </a:solidFill>
                <a:latin typeface="Arial"/>
              </a:rPr>
              <a:t>feasibility study</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feasible from financial, technical, organizational standpoi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a good investme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quired technology, skill available?</a:t>
            </a:r>
            <a:endParaRPr b="0" lang="en-US" sz="1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3"/>
          <p:cNvSpPr/>
          <p:nvPr/>
        </p:nvSpPr>
        <p:spPr>
          <a:xfrm>
            <a:off x="457200" y="1600200"/>
            <a:ext cx="77724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ystem analysis (cont.)</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ing information requirements</a:t>
            </a:r>
            <a:endParaRPr b="0" lang="en-US" sz="24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o needs what information, where, when, and how</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ine objectives of new/modified system</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ail the functions new system must perform</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ulty requirements analysis is leading cause of systems failure and high systems development cost</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ystem specifications that will deliver functions identified during systems analysi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address all managerial, organizational, and technological components of system solu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end user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formation requirements drive system build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have sufficient control over design process to ensure that system reflects their business priorities and information need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fficient user involvement in design effort is major cause of system failure</a:t>
            </a:r>
            <a:endParaRPr b="0" lang="en-US" sz="1800" spc="-1" strike="noStrike">
              <a:solidFill>
                <a:srgbClr val="000000"/>
              </a:solidFill>
              <a:latin typeface="Arial"/>
            </a:endParaRPr>
          </a:p>
        </p:txBody>
      </p:sp>
      <p:sp>
        <p:nvSpPr>
          <p:cNvPr id="12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62"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building new systems produces organizational change.</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core activities in the systems development proc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principal methodologies for modeling and designing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are alternative methodologies for building information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and describe new approaches for system building in the digital firm era.</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28" name=""/>
          <p:cNvGraphicFramePr/>
          <p:nvPr/>
        </p:nvGraphicFramePr>
        <p:xfrm>
          <a:off x="419040" y="1981080"/>
          <a:ext cx="8305920" cy="4203720"/>
        </p:xfrm>
        <a:graphic>
          <a:graphicData uri="http://schemas.openxmlformats.org/drawingml/2006/table">
            <a:tbl>
              <a:tblPr/>
              <a:tblGrid>
                <a:gridCol w="2057400"/>
                <a:gridCol w="3699000"/>
                <a:gridCol w="2549520"/>
              </a:tblGrid>
              <a:tr h="420804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UTPUT</a:t>
                      </a:r>
                      <a:br>
                        <a:rPr sz="1200"/>
                      </a:br>
                      <a:r>
                        <a:rPr b="0" lang="en-US" sz="1200" spc="-1" strike="noStrike">
                          <a:solidFill>
                            <a:srgbClr val="000000"/>
                          </a:solidFill>
                          <a:latin typeface="Arial"/>
                        </a:rPr>
                        <a:t>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IN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ER INTERF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BAS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data 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nd speed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organization and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specification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odu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repor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of outpu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MANUAL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v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performs th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controls (characters, limit, reasonable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controls (consistency, record cou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controls (totals, samples of outpu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 controls (passwords, special for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strophe pl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s</a:t>
                      </a:r>
                      <a:endParaRPr b="0" lang="en-US" sz="1200" spc="-1" strike="noStrike">
                        <a:solidFill>
                          <a:srgbClr val="000000"/>
                        </a:solidFill>
                        <a:latin typeface="Arial"/>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documen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f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new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esting method</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ver to new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I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ining techn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raining module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raining facil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GANIZATION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structur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relationship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29" name="Rectangle 8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sign Specifications</a:t>
            </a:r>
            <a:endParaRPr b="0" lang="en-US" sz="2400" spc="-1" strike="noStrike">
              <a:solidFill>
                <a:srgbClr val="000000"/>
              </a:solidFill>
              <a:latin typeface="Arial"/>
            </a:endParaRPr>
          </a:p>
        </p:txBody>
      </p:sp>
      <p:sp>
        <p:nvSpPr>
          <p:cNvPr id="13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43080" y="1752480"/>
            <a:ext cx="8496000" cy="472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are Dorfman Pacific’s old and new order-picking processes. Diagram the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role did end users play in developing Dorfman’s wireless warehouse system? What would have happened to the project if users hadn’t been so involved? Explain your answer.</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ypes of system building methods and tools did Dorfman use for building its wireless warehouse syst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system change the way Dorfman ran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the new system solve? Was it successful?</a:t>
            </a:r>
            <a:endParaRPr b="0" lang="en-US" sz="2000" spc="-1" strike="noStrike">
              <a:solidFill>
                <a:srgbClr val="000000"/>
              </a:solidFill>
              <a:latin typeface="Arial"/>
            </a:endParaRPr>
          </a:p>
        </p:txBody>
      </p:sp>
      <p:sp>
        <p:nvSpPr>
          <p:cNvPr id="132"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orfman Pacific Rolls Out a New Wireless Warehouse</a:t>
            </a:r>
            <a:endParaRPr b="0" lang="en-US" sz="2400" spc="-1" strike="noStrike">
              <a:solidFill>
                <a:srgbClr val="000000"/>
              </a:solidFill>
              <a:latin typeface="Arial"/>
            </a:endParaRPr>
          </a:p>
        </p:txBody>
      </p:sp>
      <p:sp>
        <p:nvSpPr>
          <p:cNvPr id="133"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gramm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ystem specifications from design stage are translated into software program cod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may be purchased, leased, or outsourced instead</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st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ensure</a:t>
            </a:r>
            <a:r>
              <a:rPr b="1" lang="en-US" sz="2000" spc="-1" strike="noStrike">
                <a:solidFill>
                  <a:srgbClr val="000000"/>
                </a:solidFill>
                <a:latin typeface="Arial"/>
                <a:ea typeface="Times New Roman"/>
              </a:rPr>
              <a:t> </a:t>
            </a:r>
            <a:r>
              <a:rPr b="0" lang="en-US" sz="2000" spc="-1" strike="noStrike">
                <a:solidFill>
                  <a:srgbClr val="000000"/>
                </a:solidFill>
                <a:latin typeface="Arial"/>
              </a:rPr>
              <a:t>system produces right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testing:</a:t>
            </a:r>
            <a:r>
              <a:rPr b="0" lang="en-US" sz="2000" spc="-1" strike="noStrike">
                <a:solidFill>
                  <a:srgbClr val="000000"/>
                </a:solidFill>
                <a:latin typeface="Arial"/>
              </a:rPr>
              <a:t> Tests each program in system separatel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esting: </a:t>
            </a:r>
            <a:r>
              <a:rPr b="0" lang="en-US" sz="2000" spc="-1" strike="noStrike">
                <a:solidFill>
                  <a:srgbClr val="000000"/>
                </a:solidFill>
                <a:latin typeface="Arial"/>
              </a:rPr>
              <a:t>Tests functioning of system as a whole </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testing: </a:t>
            </a:r>
            <a:r>
              <a:rPr b="0" lang="en-US" sz="2000" spc="-1" strike="noStrike">
                <a:solidFill>
                  <a:srgbClr val="000000"/>
                </a:solidFill>
                <a:latin typeface="Arial"/>
              </a:rPr>
              <a:t>Makes sure</a:t>
            </a:r>
            <a:r>
              <a:rPr b="1" lang="en-US" sz="2000" spc="-1" strike="noStrike">
                <a:solidFill>
                  <a:srgbClr val="000000"/>
                </a:solidFill>
                <a:latin typeface="Arial"/>
              </a:rPr>
              <a:t> </a:t>
            </a:r>
            <a:r>
              <a:rPr b="0" lang="en-US" sz="2000" spc="-1" strike="noStrike">
                <a:solidFill>
                  <a:srgbClr val="000000"/>
                </a:solidFill>
                <a:latin typeface="Arial"/>
              </a:rPr>
              <a:t>system is ready to be used in production setting</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 </a:t>
            </a:r>
            <a:r>
              <a:rPr b="0" lang="en-US" sz="2000" spc="-1" strike="noStrike">
                <a:solidFill>
                  <a:srgbClr val="000000"/>
                </a:solidFill>
                <a:latin typeface="Arial"/>
              </a:rPr>
              <a:t>All preparations for series of tes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to Test a Record Change</a:t>
            </a:r>
            <a:endParaRPr b="0" lang="en-US" sz="2400" spc="-1" strike="noStrike">
              <a:solidFill>
                <a:srgbClr val="000000"/>
              </a:solidFill>
              <a:latin typeface="Arial"/>
            </a:endParaRPr>
          </a:p>
        </p:txBody>
      </p:sp>
      <p:sp>
        <p:nvSpPr>
          <p:cNvPr id="13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4</a:t>
            </a:r>
            <a:endParaRPr b="0" lang="en-US" sz="1800" spc="-1" strike="noStrike">
              <a:solidFill>
                <a:srgbClr val="000000"/>
              </a:solidFill>
              <a:latin typeface="Arial"/>
            </a:endParaRPr>
          </a:p>
        </p:txBody>
      </p:sp>
      <p:sp>
        <p:nvSpPr>
          <p:cNvPr id="140" name="Text Box 4"/>
          <p:cNvSpPr/>
          <p:nvPr/>
        </p:nvSpPr>
        <p:spPr>
          <a:xfrm>
            <a:off x="1066680" y="5791320"/>
            <a:ext cx="7010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900" spc="-1" strike="noStrike">
              <a:solidFill>
                <a:srgbClr val="000000"/>
              </a:solidFill>
              <a:latin typeface="Arial"/>
            </a:endParaRPr>
          </a:p>
        </p:txBody>
      </p:sp>
      <p:sp>
        <p:nvSpPr>
          <p:cNvPr id="14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42" name="Object 8"/>
          <p:cNvGraphicFramePr/>
          <p:nvPr/>
        </p:nvGraphicFramePr>
        <p:xfrm>
          <a:off x="1371600" y="1981080"/>
          <a:ext cx="6445080" cy="3543480"/>
        </p:xfrm>
        <a:graphic>
          <a:graphicData uri="http://schemas.openxmlformats.org/presentationml/2006/ole">
            <p:oleObj r:id="rId2" spid="">
              <p:embed/>
              <p:pic>
                <p:nvPicPr>
                  <p:cNvPr id="143" name="Object 8" descr=""/>
                  <p:cNvPicPr/>
                  <p:nvPr/>
                </p:nvPicPr>
                <p:blipFill>
                  <a:blip r:embed="rId3"/>
                  <a:stretch/>
                </p:blipFill>
                <p:spPr>
                  <a:xfrm>
                    <a:off x="1371600" y="1981080"/>
                    <a:ext cx="6445080" cy="3543480"/>
                  </a:xfrm>
                  <a:prstGeom prst="rect">
                    <a:avLst/>
                  </a:prstGeom>
                  <a:ln w="0">
                    <a:noFill/>
                  </a:ln>
                </p:spPr>
              </p:pic>
            </p:oleObj>
          </a:graphicData>
        </a:graphic>
      </p:graphicFrame>
      <p:sp>
        <p:nvSpPr>
          <p:cNvPr id="14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sion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changing from old system to new system</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strategies</a:t>
            </a:r>
            <a:endParaRPr b="0" lang="en-US" sz="20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allel strateg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 cutover</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lot stud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ased approach</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end-user training</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ization of detailed documentation showing how system works from technical and end-user standpoint </a:t>
            </a:r>
            <a:endParaRPr b="0" lang="en-US" sz="18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4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ion and maintenanc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stem reviewed to determine if any revisions needed</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prepare </a:t>
            </a:r>
            <a:r>
              <a:rPr b="0" lang="en-US" sz="2000" spc="-1" strike="noStrike">
                <a:solidFill>
                  <a:srgbClr val="000000"/>
                </a:solidFill>
                <a:latin typeface="Arial"/>
              </a:rPr>
              <a:t>formal </a:t>
            </a:r>
            <a:r>
              <a:rPr b="1" lang="en-US" sz="2000" spc="-1" strike="noStrike">
                <a:solidFill>
                  <a:srgbClr val="000000"/>
                </a:solidFill>
                <a:latin typeface="Arial"/>
              </a:rPr>
              <a:t>postimplementation audit</a:t>
            </a:r>
            <a:r>
              <a:rPr b="0" lang="en-US" sz="2000" spc="-1" strike="noStrike">
                <a:solidFill>
                  <a:srgbClr val="000000"/>
                </a:solidFill>
                <a:latin typeface="Arial"/>
              </a:rPr>
              <a:t> docum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hardware, software, documentation, or procedures to a production system to correct errors, meet new requirements, or improve processing efficienc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debugging, emergency work</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hanges to hardware, software, data, report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of work: User enhancements, improving documentation, recoding for greater processing efficiency</a:t>
            </a:r>
            <a:endParaRPr b="0" lang="en-US" sz="1800" spc="-1" strike="noStrike">
              <a:solidFill>
                <a:srgbClr val="000000"/>
              </a:solidFill>
              <a:latin typeface="Arial"/>
            </a:endParaRPr>
          </a:p>
        </p:txBody>
      </p:sp>
      <p:sp>
        <p:nvSpPr>
          <p:cNvPr id="14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52" name=""/>
          <p:cNvGraphicFramePr/>
          <p:nvPr/>
        </p:nvGraphicFramePr>
        <p:xfrm>
          <a:off x="2057400" y="1981080"/>
          <a:ext cx="4952880" cy="4114800"/>
        </p:xfrm>
        <a:graphic>
          <a:graphicData uri="http://schemas.openxmlformats.org/drawingml/2006/table">
            <a:tbl>
              <a:tblPr/>
              <a:tblGrid>
                <a:gridCol w="1905120"/>
                <a:gridCol w="3047760"/>
              </a:tblGrid>
              <a:tr h="3225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ACTIVITY</a:t>
                      </a:r>
                      <a:endParaRPr b="0" lang="en-US" sz="14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analysi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roble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y solu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information requirement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49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desig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design specification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gramm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ate design specifications into code</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est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nce test</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e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 users and technical staff</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duction and maintenance</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ify the system</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3" name="Rectangle 51"/>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mmary of Systems Development Activities</a:t>
            </a:r>
            <a:endParaRPr b="0" lang="en-US" sz="24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rominent methodologies for modeling and designing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methodologie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developmen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d</a:t>
            </a:r>
            <a:r>
              <a:rPr b="0" lang="en-US" sz="2000" spc="-1" strike="noStrike">
                <a:solidFill>
                  <a:srgbClr val="000000"/>
                </a:solidFill>
                <a:latin typeface="Arial"/>
                <a:ea typeface="Times New Roman"/>
              </a:rPr>
              <a:t>: Techniques are step-by-step, progressive</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oriented</a:t>
            </a:r>
            <a:r>
              <a:rPr b="0" lang="en-US" sz="2000" spc="-1" strike="noStrike">
                <a:solidFill>
                  <a:srgbClr val="000000"/>
                </a:solidFill>
                <a:latin typeface="Arial"/>
                <a:ea typeface="Times New Roman"/>
              </a:rPr>
              <a:t>: Focusing on modeling processes or actions that manipulate data</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data from processes</a:t>
            </a:r>
            <a:endParaRPr b="0" lang="en-US" sz="2000" spc="-1" strike="noStrike">
              <a:solidFill>
                <a:srgbClr val="000000"/>
              </a:solidFill>
              <a:latin typeface="Arial"/>
            </a:endParaRPr>
          </a:p>
        </p:txBody>
      </p:sp>
      <p:sp>
        <p:nvSpPr>
          <p:cNvPr id="15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flow diagram:</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tool for representing system’s component processes and flow of data between them</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logical graphic model of information flow</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and lower-level diagrams can be used to break processes down into successive layers of detail</a:t>
            </a:r>
            <a:endParaRPr b="0" lang="en-US" sz="18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a:t>
            </a:r>
            <a:r>
              <a:rPr b="0" lang="en-US" sz="2000" spc="-1" strike="noStrike">
                <a:solidFill>
                  <a:srgbClr val="000000"/>
                </a:solidFill>
                <a:latin typeface="Arial"/>
              </a:rPr>
              <a:t> Defines contents of data flows and data stor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pecifications: </a:t>
            </a:r>
            <a:r>
              <a:rPr b="0" lang="en-US" sz="2000" spc="-1" strike="noStrike">
                <a:solidFill>
                  <a:srgbClr val="000000"/>
                </a:solidFill>
                <a:latin typeface="Arial"/>
              </a:rPr>
              <a:t>Describe transformation occurring within lowest level of data flow diagrams </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chart: </a:t>
            </a:r>
            <a:r>
              <a:rPr b="0" lang="en-US" sz="2000" spc="-1" strike="noStrike">
                <a:solidFill>
                  <a:srgbClr val="000000"/>
                </a:solidFill>
                <a:latin typeface="Arial"/>
              </a:rPr>
              <a:t>Top-down chart, showing each level of design, relationship to other levels, and place in overall design structure</a:t>
            </a:r>
            <a:endParaRPr b="0" lang="en-US" sz="2000" spc="-1" strike="noStrike">
              <a:solidFill>
                <a:srgbClr val="000000"/>
              </a:solidFill>
              <a:latin typeface="Arial"/>
            </a:endParaRPr>
          </a:p>
        </p:txBody>
      </p:sp>
      <p:sp>
        <p:nvSpPr>
          <p:cNvPr id="15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1" name="Object 8"/>
          <p:cNvGraphicFramePr/>
          <p:nvPr/>
        </p:nvGraphicFramePr>
        <p:xfrm>
          <a:off x="1219320" y="1905120"/>
          <a:ext cx="7467480" cy="4227480"/>
        </p:xfrm>
        <a:graphic>
          <a:graphicData uri="http://schemas.openxmlformats.org/presentationml/2006/ole">
            <p:oleObj r:id="rId2" spid="">
              <p:embed/>
              <p:pic>
                <p:nvPicPr>
                  <p:cNvPr id="162" name="Object 8" descr=""/>
                  <p:cNvPicPr/>
                  <p:nvPr/>
                </p:nvPicPr>
                <p:blipFill>
                  <a:blip r:embed="rId3"/>
                  <a:stretch/>
                </p:blipFill>
                <p:spPr>
                  <a:xfrm>
                    <a:off x="1219320" y="1905120"/>
                    <a:ext cx="7467480" cy="4227480"/>
                  </a:xfrm>
                  <a:prstGeom prst="rect">
                    <a:avLst/>
                  </a:prstGeom>
                  <a:ln w="0">
                    <a:noFill/>
                  </a:ln>
                </p:spPr>
              </p:pic>
            </p:oleObj>
          </a:graphicData>
        </a:graphic>
      </p:graphicFrame>
      <p:sp>
        <p:nvSpPr>
          <p:cNvPr id="163" name="Rectangle 2"/>
          <p:cNvSpPr/>
          <p:nvPr/>
        </p:nvSpPr>
        <p:spPr>
          <a:xfrm>
            <a:off x="685800" y="12193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Data Flow Diagram for Mail-In University Registration System</a:t>
            </a:r>
            <a:endParaRPr b="0" lang="en-US" sz="2000" spc="-1" strike="noStrike">
              <a:solidFill>
                <a:srgbClr val="000000"/>
              </a:solidFill>
              <a:latin typeface="Arial"/>
            </a:endParaRPr>
          </a:p>
        </p:txBody>
      </p:sp>
      <p:sp>
        <p:nvSpPr>
          <p:cNvPr id="164" name="Text Box 3"/>
          <p:cNvSpPr/>
          <p:nvPr/>
        </p:nvSpPr>
        <p:spPr>
          <a:xfrm>
            <a:off x="1440" y="40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5</a:t>
            </a:r>
            <a:endParaRPr b="0" lang="en-US" sz="1800" spc="-1" strike="noStrike">
              <a:solidFill>
                <a:srgbClr val="000000"/>
              </a:solidFill>
              <a:latin typeface="Arial"/>
            </a:endParaRPr>
          </a:p>
        </p:txBody>
      </p:sp>
      <p:sp>
        <p:nvSpPr>
          <p:cNvPr id="165" name="Text Box 4"/>
          <p:cNvSpPr/>
          <p:nvPr/>
        </p:nvSpPr>
        <p:spPr>
          <a:xfrm>
            <a:off x="0" y="4343400"/>
            <a:ext cx="152388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900" spc="-1" strike="noStrike">
              <a:solidFill>
                <a:srgbClr val="000000"/>
              </a:solidFill>
              <a:latin typeface="Arial"/>
            </a:endParaRPr>
          </a:p>
        </p:txBody>
      </p:sp>
      <p:sp>
        <p:nvSpPr>
          <p:cNvPr id="16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Connection Makes New System Connect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of-date, overly manual fulfillment system; not designed to handle multi-tiered fulfillment system</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Develop in-house new front-end software based on Web services, </a:t>
            </a:r>
            <a:r>
              <a:rPr b="1" lang="en-US" sz="2400" spc="-1" strike="noStrike">
                <a:solidFill>
                  <a:srgbClr val="000000"/>
                </a:solidFill>
                <a:latin typeface="Arial"/>
              </a:rPr>
              <a:t>including business process changes, workflow design, user interface chang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d 90% of manual work for purchase orders; optimizes order fulfillment, links disparate company faciliti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steps needed required to build new systems, from  analyzing problems and requirements to managing change</a:t>
            </a:r>
            <a:endParaRPr b="0" lang="en-US" sz="2400" spc="-1" strike="noStrike">
              <a:solidFill>
                <a:srgbClr val="000000"/>
              </a:solidFill>
              <a:latin typeface="Constantia"/>
            </a:endParaRPr>
          </a:p>
        </p:txBody>
      </p:sp>
      <p:sp>
        <p:nvSpPr>
          <p:cNvPr id="65"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69" name="Text Box 3"/>
          <p:cNvSpPr/>
          <p:nvPr/>
        </p:nvSpPr>
        <p:spPr>
          <a:xfrm>
            <a:off x="390672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6</a:t>
            </a:r>
            <a:endParaRPr b="0" lang="en-US" sz="1800" spc="-1" strike="noStrike">
              <a:solidFill>
                <a:srgbClr val="000000"/>
              </a:solidFill>
              <a:latin typeface="Arial"/>
            </a:endParaRPr>
          </a:p>
        </p:txBody>
      </p:sp>
      <p:sp>
        <p:nvSpPr>
          <p:cNvPr id="170" name="Text Box 4"/>
          <p:cNvSpPr/>
          <p:nvPr/>
        </p:nvSpPr>
        <p:spPr>
          <a:xfrm>
            <a:off x="228600" y="510552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tructure chart shows the highest or most abstract level of design for a payroll system, providing an overview of the entire system.</a:t>
            </a:r>
            <a:endParaRPr b="0" lang="en-US" sz="900" spc="-1" strike="noStrike">
              <a:solidFill>
                <a:srgbClr val="000000"/>
              </a:solidFill>
              <a:latin typeface="Arial"/>
            </a:endParaRPr>
          </a:p>
        </p:txBody>
      </p:sp>
      <p:sp>
        <p:nvSpPr>
          <p:cNvPr id="171" name="Rectangle 3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72" name="Picture 32" descr="Fig-13-6"/>
          <p:cNvPicPr/>
          <p:nvPr/>
        </p:nvPicPr>
        <p:blipFill>
          <a:blip r:embed="rId2"/>
          <a:stretch/>
        </p:blipFill>
        <p:spPr>
          <a:xfrm>
            <a:off x="304920" y="2286000"/>
            <a:ext cx="8458200" cy="2309760"/>
          </a:xfrm>
          <a:prstGeom prst="rect">
            <a:avLst/>
          </a:prstGeom>
          <a:ln w="0">
            <a:noFill/>
          </a:ln>
        </p:spPr>
      </p:pic>
      <p:sp>
        <p:nvSpPr>
          <p:cNvPr id="17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t>
            </a:r>
            <a:r>
              <a:rPr b="1" lang="en-US" sz="2000" spc="-1" strike="noStrike">
                <a:solidFill>
                  <a:srgbClr val="000000"/>
                </a:solidFill>
                <a:latin typeface="Arial"/>
              </a:rPr>
              <a:t>object </a:t>
            </a:r>
            <a:r>
              <a:rPr b="0" lang="en-US" sz="2000" spc="-1" strike="noStrike">
                <a:solidFill>
                  <a:srgbClr val="000000"/>
                </a:solidFill>
                <a:latin typeface="Arial"/>
              </a:rPr>
              <a:t>as basic unit of systems analysis and design</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s data and the specific processes that operate on those data</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capsulated in object can be accessed and modified only by operations, or methods, associated with that object</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modeling based on concepts of class and inherit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belong to a certain class and have features of that clas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inherit structures and behaviors of a more general, ancestor class</a:t>
            </a:r>
            <a:endParaRPr b="0" lang="en-US" sz="1800" spc="-1" strike="noStrike">
              <a:solidFill>
                <a:srgbClr val="000000"/>
              </a:solidFill>
              <a:latin typeface="Arial"/>
            </a:endParaRPr>
          </a:p>
        </p:txBody>
      </p:sp>
      <p:sp>
        <p:nvSpPr>
          <p:cNvPr id="17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7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7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7</a:t>
            </a:r>
            <a:endParaRPr b="0" lang="en-US" sz="1800" spc="-1" strike="noStrike">
              <a:solidFill>
                <a:srgbClr val="000000"/>
              </a:solidFill>
              <a:latin typeface="Arial"/>
            </a:endParaRPr>
          </a:p>
        </p:txBody>
      </p:sp>
      <p:sp>
        <p:nvSpPr>
          <p:cNvPr id="179" name="Text Box 4"/>
          <p:cNvSpPr/>
          <p:nvPr/>
        </p:nvSpPr>
        <p:spPr>
          <a:xfrm>
            <a:off x="2133720" y="5791320"/>
            <a:ext cx="4724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how classes inherit the common features of their superclass.</a:t>
            </a:r>
            <a:endParaRPr b="0" lang="en-US" sz="900" spc="-1" strike="noStrike">
              <a:solidFill>
                <a:srgbClr val="000000"/>
              </a:solidFill>
              <a:latin typeface="Arial"/>
            </a:endParaRPr>
          </a:p>
        </p:txBody>
      </p:sp>
      <p:sp>
        <p:nvSpPr>
          <p:cNvPr id="180"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81" name="Picture 13" descr="Fig-13-7"/>
          <p:cNvPicPr/>
          <p:nvPr/>
        </p:nvPicPr>
        <p:blipFill>
          <a:blip r:embed="rId2"/>
          <a:stretch/>
        </p:blipFill>
        <p:spPr>
          <a:xfrm>
            <a:off x="2209680" y="2057400"/>
            <a:ext cx="4724640" cy="3514680"/>
          </a:xfrm>
          <a:prstGeom prst="rect">
            <a:avLst/>
          </a:prstGeom>
          <a:ln w="0">
            <a:noFill/>
          </a:ln>
        </p:spPr>
      </p:pic>
      <p:sp>
        <p:nvSpPr>
          <p:cNvPr id="18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evelopment</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terative and incremental than traditional structured development</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analysis:</a:t>
            </a:r>
            <a:r>
              <a:rPr b="0" lang="en-US" sz="1800" spc="-1" strike="noStrike">
                <a:solidFill>
                  <a:srgbClr val="000000"/>
                </a:solidFill>
                <a:latin typeface="Arial"/>
              </a:rPr>
              <a:t> Interactions between system and users analyzed to identify objects </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phase:</a:t>
            </a:r>
            <a:r>
              <a:rPr b="0" lang="en-US" sz="1800" spc="-1" strike="noStrike">
                <a:solidFill>
                  <a:srgbClr val="000000"/>
                </a:solidFill>
                <a:latin typeface="Arial"/>
              </a:rPr>
              <a:t> Describes how objects will behave and interact; grouped into classes, subclasses and hierarchie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r>
              <a:rPr b="0" lang="en-US" sz="1800" spc="-1" strike="noStrike">
                <a:solidFill>
                  <a:srgbClr val="000000"/>
                </a:solidFill>
                <a:latin typeface="Arial"/>
              </a:rPr>
              <a:t> Some classes may be reused from existing library of classes, others created or inherited</a:t>
            </a:r>
            <a:endParaRPr b="0" lang="en-US" sz="1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bjects reusable, object-oriented development can potentially reduce time and cost of development</a:t>
            </a:r>
            <a:endParaRPr b="0" lang="en-US" sz="2000" spc="-1" strike="noStrike">
              <a:solidFill>
                <a:srgbClr val="000000"/>
              </a:solidFill>
              <a:latin typeface="Arial"/>
            </a:endParaRPr>
          </a:p>
        </p:txBody>
      </p:sp>
      <p:sp>
        <p:nvSpPr>
          <p:cNvPr id="18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o automate development and reduce repetitive work, including</a:t>
            </a:r>
            <a:endParaRPr b="0" lang="en-US" sz="20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facilities for producing charts and diagram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and report generators, reporting facilit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and checking tool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ictionar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and documentation generators</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terative design by automating revisions and changes and providing prototyping facilitie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organizational discipline to be used effectively</a:t>
            </a:r>
            <a:endParaRPr b="0" lang="en-US" sz="2000" spc="-1" strike="noStrike">
              <a:solidFill>
                <a:srgbClr val="000000"/>
              </a:solidFill>
              <a:latin typeface="Arial"/>
            </a:endParaRPr>
          </a:p>
        </p:txBody>
      </p:sp>
      <p:sp>
        <p:nvSpPr>
          <p:cNvPr id="18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0"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ternative Systems-Building Methods</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3"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 </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a:t>
            </a:r>
            <a:r>
              <a:rPr b="0" lang="en-US" sz="2000" spc="-1" strike="noStrike">
                <a:solidFill>
                  <a:srgbClr val="000000"/>
                </a:solidFill>
                <a:latin typeface="Arial"/>
              </a:rPr>
              <a:t>ldest method for building information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approach - divides development into formal stages</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s “waterfall” approach: Tasks in one stage finish before another stage begin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formal division of labor between end users and information systems specialist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s formal specifications and paperwork</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used for building large complex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stly, time-consuming, and inflexible</a:t>
            </a:r>
            <a:endParaRPr b="0" lang="en-US" sz="2000" spc="-1" strike="noStrike">
              <a:solidFill>
                <a:srgbClr val="000000"/>
              </a:solidFill>
              <a:latin typeface="Arial"/>
            </a:endParaRPr>
          </a:p>
        </p:txBody>
      </p:sp>
      <p:sp>
        <p:nvSpPr>
          <p:cNvPr id="19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experimental system rapidly and inexpensively for end users to evaluate</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a:t>
            </a:r>
            <a:r>
              <a:rPr b="0" lang="en-US" sz="2000" spc="-1" strike="noStrike">
                <a:solidFill>
                  <a:srgbClr val="000000"/>
                </a:solidFill>
                <a:latin typeface="Arial"/>
              </a:rPr>
              <a:t>Working but preliminary version of information system</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prototype serves as template for final system </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s in prototyping</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y user requirements</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itial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ise and enhance prototype</a:t>
            </a:r>
            <a:endParaRPr b="0" lang="en-US" sz="2000" spc="-1" strike="noStrike">
              <a:solidFill>
                <a:srgbClr val="000000"/>
              </a:solidFill>
              <a:latin typeface="Arial"/>
            </a:endParaRPr>
          </a:p>
        </p:txBody>
      </p:sp>
      <p:sp>
        <p:nvSpPr>
          <p:cNvPr id="196"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99" name="Text Box 3"/>
          <p:cNvSpPr/>
          <p:nvPr/>
        </p:nvSpPr>
        <p:spPr>
          <a:xfrm>
            <a:off x="1440" y="500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8</a:t>
            </a:r>
            <a:endParaRPr b="0" lang="en-US" sz="1800" spc="-1" strike="noStrike">
              <a:solidFill>
                <a:srgbClr val="000000"/>
              </a:solidFill>
              <a:latin typeface="Arial"/>
            </a:endParaRPr>
          </a:p>
        </p:txBody>
      </p:sp>
      <p:sp>
        <p:nvSpPr>
          <p:cNvPr id="200" name="Text Box 4"/>
          <p:cNvSpPr/>
          <p:nvPr/>
        </p:nvSpPr>
        <p:spPr>
          <a:xfrm>
            <a:off x="0" y="52927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rocess of developing a prototype can be broken down into four steps. Because a prototype can be developed quickly and inexpensively, systems builders can go through several iterations, repeating steps 3 and 4, to refine and  enhance the prototype before arriving at the final operational one.</a:t>
            </a:r>
            <a:endParaRPr b="0" lang="en-US" sz="900" spc="-1" strike="noStrike">
              <a:solidFill>
                <a:srgbClr val="000000"/>
              </a:solidFill>
              <a:latin typeface="Arial"/>
            </a:endParaRPr>
          </a:p>
        </p:txBody>
      </p:sp>
      <p:sp>
        <p:nvSpPr>
          <p:cNvPr id="20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202" name="Object 9"/>
          <p:cNvGraphicFramePr/>
          <p:nvPr/>
        </p:nvGraphicFramePr>
        <p:xfrm>
          <a:off x="2798640" y="1981080"/>
          <a:ext cx="3602160" cy="4267440"/>
        </p:xfrm>
        <a:graphic>
          <a:graphicData uri="http://schemas.openxmlformats.org/presentationml/2006/ole">
            <p:oleObj r:id="rId2" spid="">
              <p:embed/>
              <p:pic>
                <p:nvPicPr>
                  <p:cNvPr id="203" name="Object 9" descr=""/>
                  <p:cNvPicPr/>
                  <p:nvPr/>
                </p:nvPicPr>
                <p:blipFill>
                  <a:blip r:embed="rId3"/>
                  <a:stretch/>
                </p:blipFill>
                <p:spPr>
                  <a:xfrm>
                    <a:off x="2798640" y="1981080"/>
                    <a:ext cx="3602160" cy="4267440"/>
                  </a:xfrm>
                  <a:prstGeom prst="rect">
                    <a:avLst/>
                  </a:prstGeom>
                  <a:ln w="0">
                    <a:noFill/>
                  </a:ln>
                </p:spPr>
              </p:pic>
            </p:oleObj>
          </a:graphicData>
        </a:graphic>
      </p:graphicFrame>
      <p:sp>
        <p:nvSpPr>
          <p:cNvPr id="20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of prototyping</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if some uncertainty in requirements  or design solution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used for end-user interface desig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likely to fulfill end-user requiremen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gloss over essential step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accommodate large quantities of data or large number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undergo full testing or document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0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kinds of structural organizational change enabled by IT</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om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rease efficiency, replace manual task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ionaliz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line standard operating procedur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 reengineering (BPR)</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and redesign business process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digm shift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hink nature of business, define new business model, change nature of organization</a:t>
            </a:r>
            <a:endParaRPr b="0" lang="en-US" sz="1800" spc="-1" strike="noStrike">
              <a:solidFill>
                <a:srgbClr val="000000"/>
              </a:solidFill>
              <a:latin typeface="Arial"/>
            </a:endParaRPr>
          </a:p>
        </p:txBody>
      </p:sp>
      <p:sp>
        <p:nvSpPr>
          <p:cNvPr id="68"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a:t>
            </a:r>
            <a:r>
              <a:rPr b="1" lang="en-US" sz="2000" spc="-1" strike="noStrike">
                <a:solidFill>
                  <a:srgbClr val="000000"/>
                </a:solidFill>
                <a:latin typeface="Arial"/>
                <a:ea typeface="Times New Roman"/>
              </a:rPr>
              <a:t>fourth-generation languages</a:t>
            </a:r>
            <a:r>
              <a:rPr b="0" lang="en-US" sz="2000" spc="-1" strike="noStrike">
                <a:solidFill>
                  <a:srgbClr val="000000"/>
                </a:solidFill>
                <a:latin typeface="Arial"/>
                <a:ea typeface="Times New Roman"/>
              </a:rPr>
              <a:t> to allow end-users to develop systems with little or no help from technical specialists</a:t>
            </a:r>
            <a:endParaRPr b="0" lang="en-US" sz="20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 generation languages</a:t>
            </a:r>
            <a:r>
              <a:rPr b="0" lang="en-US" sz="2000" spc="-1" strike="noStrike">
                <a:solidFill>
                  <a:srgbClr val="000000"/>
                </a:solidFill>
                <a:latin typeface="Arial"/>
                <a:ea typeface="Times New Roman"/>
              </a:rPr>
              <a:t>: </a:t>
            </a:r>
            <a:r>
              <a:rPr b="0" lang="en-US" sz="1800" spc="-1" strike="noStrike">
                <a:solidFill>
                  <a:srgbClr val="000000"/>
                </a:solidFill>
                <a:latin typeface="Arial"/>
              </a:rPr>
              <a:t>Less procedural than conventional programming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software tool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pack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level programming languages</a:t>
            </a:r>
            <a:endParaRPr b="0" lang="en-US" sz="1800" spc="-1" strike="noStrike">
              <a:solidFill>
                <a:srgbClr val="000000"/>
              </a:solidFill>
              <a:latin typeface="Arial"/>
            </a:endParaRPr>
          </a:p>
        </p:txBody>
      </p:sp>
      <p:sp>
        <p:nvSpPr>
          <p:cNvPr id="20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 (co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apid completion of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of user involvement and satisfaction</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esigned for processing-intensive application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management and control, testing, documentation</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control over data</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end-user development</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cost-justification of end-user system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hardware, software, and quality standards</a:t>
            </a:r>
            <a:endParaRPr b="0" lang="en-US" sz="1800" spc="-1" strike="noStrike">
              <a:solidFill>
                <a:srgbClr val="000000"/>
              </a:solidFill>
              <a:latin typeface="Arial"/>
            </a:endParaRPr>
          </a:p>
        </p:txBody>
      </p:sp>
      <p:sp>
        <p:nvSpPr>
          <p:cNvPr id="21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ve time and mone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y packages offer customization features: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software package to be modified to meet unique requirements without destroying integrity of package softwa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criteria for systems analysis includ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provided by the package, flexibility, user friendliness, hardware and software resources, database requirements, installation and maintenance efforts, documentation, vendor quality, and cost  </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for Proposal (RFP)</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list of questions submitted to packaged-software vend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valuate alternative software packages</a:t>
            </a:r>
            <a:endParaRPr b="0" lang="en-US" sz="1800" spc="-1" strike="noStrike">
              <a:solidFill>
                <a:srgbClr val="000000"/>
              </a:solidFill>
              <a:latin typeface="Arial"/>
            </a:endParaRPr>
          </a:p>
        </p:txBody>
      </p:sp>
      <p:sp>
        <p:nvSpPr>
          <p:cNvPr id="2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ral typ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and SaaS provide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bing companies use software and computer hardware provided by vendor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ernal vendo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red to design, create software</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mestic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firms need for additional skills, resources, assets</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fshore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cost-savings</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 (cont.)</a:t>
            </a:r>
            <a:endParaRPr b="0" lang="en-US" sz="28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ws organization flexibility in IT need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dden costs, e.g.</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ing and selecting vendor</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itioning to vendor</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ing up proprietary business processes to third party</a:t>
            </a:r>
            <a:endParaRPr b="0" lang="en-US" sz="2400" spc="-1" strike="noStrike">
              <a:solidFill>
                <a:srgbClr val="000000"/>
              </a:solidFill>
              <a:latin typeface="Arial"/>
            </a:endParaRPr>
          </a:p>
        </p:txBody>
      </p:sp>
      <p:sp>
        <p:nvSpPr>
          <p:cNvPr id="2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224"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9</a:t>
            </a:r>
            <a:endParaRPr b="0" lang="en-US" sz="1800" spc="-1" strike="noStrike">
              <a:solidFill>
                <a:srgbClr val="000000"/>
              </a:solidFill>
              <a:latin typeface="Arial"/>
            </a:endParaRPr>
          </a:p>
        </p:txBody>
      </p:sp>
      <p:sp>
        <p:nvSpPr>
          <p:cNvPr id="225" name="Text Box 4"/>
          <p:cNvSpPr/>
          <p:nvPr/>
        </p:nvSpPr>
        <p:spPr>
          <a:xfrm>
            <a:off x="1828800" y="5486400"/>
            <a:ext cx="5410080" cy="64260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226"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228" name="Picture 8" descr="Fig-13-9.tif"/>
          <p:cNvPicPr/>
          <p:nvPr/>
        </p:nvPicPr>
        <p:blipFill>
          <a:blip r:embed="rId2"/>
          <a:stretch/>
        </p:blipFill>
        <p:spPr>
          <a:xfrm>
            <a:off x="914400" y="1752480"/>
            <a:ext cx="7315200" cy="354348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issues should Chrysler have explored when deciding whether to outsource to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oints should Chrysler have addressed in its outsourcing contract with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Tata Consultancy Services a good outsourcing choice for Chrysler? Why or why not? Explain your answer.</a:t>
            </a:r>
            <a:endParaRPr b="0" lang="en-US" sz="2000" spc="-1" strike="noStrike">
              <a:solidFill>
                <a:srgbClr val="000000"/>
              </a:solidFill>
              <a:latin typeface="Arial"/>
            </a:endParaRPr>
          </a:p>
        </p:txBody>
      </p:sp>
      <p:sp>
        <p:nvSpPr>
          <p:cNvPr id="230" name="Rectangle 5"/>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d Chrysler Make the Right Outsourcing Decision?</a:t>
            </a:r>
            <a:endParaRPr b="0" lang="en-US" sz="2400" spc="-1" strike="noStrike">
              <a:solidFill>
                <a:srgbClr val="000000"/>
              </a:solidFill>
              <a:latin typeface="Arial"/>
            </a:endParaRPr>
          </a:p>
        </p:txBody>
      </p:sp>
      <p:sp>
        <p:nvSpPr>
          <p:cNvPr id="231"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3"/>
          <p:cNvSpPr/>
          <p:nvPr/>
        </p:nvSpPr>
        <p:spPr>
          <a:xfrm>
            <a:off x="45720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apid application development (RAD)</a:t>
            </a:r>
            <a:endParaRPr b="0" lang="en-US" sz="28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creating workable systems in a very short period of time</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s techniques such as:</a:t>
            </a:r>
            <a:endParaRPr b="0" lang="en-US" sz="24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programming and other tools for building graphical user interfac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prototyping of key system elemen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program code generatio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eamwork among end users and information systems specialists</a:t>
            </a:r>
            <a:endParaRPr b="0" lang="en-US" sz="2000" spc="-1" strike="noStrike">
              <a:solidFill>
                <a:srgbClr val="000000"/>
              </a:solidFill>
              <a:latin typeface="Arial"/>
            </a:endParaRPr>
          </a:p>
        </p:txBody>
      </p:sp>
      <p:sp>
        <p:nvSpPr>
          <p:cNvPr id="23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
        <p:nvSpPr>
          <p:cNvPr id="235" name="Rectangle 1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accelerate generation of information requirements and to develop initial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end users and information systems specialists together in interactive session to discuss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gnificantly speed up design phase and involve users at intense level</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8"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e developme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rapid delivery of working software by breaking large project into several small sub-project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bprojects</a:t>
            </a:r>
            <a:endParaRPr b="0" lang="en-US" sz="24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separate, complete projec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eted in short periods of time using iteration and continuous feedback</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hasizes face-to-face communication over written documents, allowing collaboration and faster decision making</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1"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Change Carries Risks and Rewards</a:t>
            </a:r>
            <a:endParaRPr b="0" lang="en-US" sz="2400" spc="-1" strike="noStrike">
              <a:solidFill>
                <a:srgbClr val="000000"/>
              </a:solidFill>
              <a:latin typeface="Arial"/>
            </a:endParaRPr>
          </a:p>
        </p:txBody>
      </p:sp>
      <p:sp>
        <p:nvSpPr>
          <p:cNvPr id="7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1</a:t>
            </a:r>
            <a:endParaRPr b="0" lang="en-US" sz="1800" spc="-1" strike="noStrike">
              <a:solidFill>
                <a:srgbClr val="000000"/>
              </a:solidFill>
              <a:latin typeface="Arial"/>
            </a:endParaRPr>
          </a:p>
        </p:txBody>
      </p:sp>
      <p:sp>
        <p:nvSpPr>
          <p:cNvPr id="71" name="Text Box 4"/>
          <p:cNvSpPr/>
          <p:nvPr/>
        </p:nvSpPr>
        <p:spPr>
          <a:xfrm>
            <a:off x="1905120" y="548640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st common forms of organizational change are automation and rationalization. These relatively slow-moving and slow-changing strategies present modest returns but little risk. Faster and more comprehensive change—such as reengineering and paradigm shifts—carries high rewards but offers substantial chances of failure.</a:t>
            </a:r>
            <a:endParaRPr b="0" lang="en-US" sz="900" spc="-1" strike="noStrike">
              <a:solidFill>
                <a:srgbClr val="000000"/>
              </a:solidFill>
              <a:latin typeface="Arial"/>
            </a:endParaRPr>
          </a:p>
        </p:txBody>
      </p:sp>
      <p:sp>
        <p:nvSpPr>
          <p:cNvPr id="72" name="Rectangle 2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pic>
        <p:nvPicPr>
          <p:cNvPr id="74" name="Picture 8" descr="Fig-13-1.tif"/>
          <p:cNvPicPr/>
          <p:nvPr/>
        </p:nvPicPr>
        <p:blipFill>
          <a:blip r:embed="rId2"/>
          <a:stretch/>
        </p:blipFill>
        <p:spPr>
          <a:xfrm>
            <a:off x="2590920" y="1752480"/>
            <a:ext cx="3908160" cy="365760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457200" y="1600200"/>
            <a:ext cx="76960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objects that provide software for common functions (e.g., online ordering) and can be combined to create large-scale business appl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b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software components that use XML and open Internet standards (platform independent)</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applications to communicate with no custom programming required to share data and services </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ngage other Web services for more complex transa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latform and device-independent standards can result in significant cost-savings and opportunities for collaboration with other companies</a:t>
            </a:r>
            <a:endParaRPr b="0" lang="en-US" sz="1800" spc="-1" strike="noStrike">
              <a:solidFill>
                <a:srgbClr val="000000"/>
              </a:solidFill>
              <a:latin typeface="Arial"/>
            </a:endParaRPr>
          </a:p>
        </p:txBody>
      </p:sp>
      <p:sp>
        <p:nvSpPr>
          <p:cNvPr id="2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reengineering (BPR)</a:t>
            </a:r>
            <a:endParaRPr b="0" lang="en-US" sz="2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 payoffs can result from redesigning business process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me mortgage industry used IT to redesign mortgage application proces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FORE: 6- to 8-week process costing $3000</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1-week process costing $1000</a:t>
            </a:r>
            <a:endParaRPr b="0" lang="en-US" sz="1800" spc="-1" strike="noStrike">
              <a:solidFill>
                <a:srgbClr val="000000"/>
              </a:solidFill>
              <a:latin typeface="Arial"/>
            </a:endParaRPr>
          </a:p>
          <a:p>
            <a:pPr lvl="2" marL="1085760" indent="-228600">
              <a:lnSpc>
                <a:spcPct val="100000"/>
              </a:lnSpc>
              <a:spcAft>
                <a:spcPts val="146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laced sequential tasks with “work cell” or team approach</a:t>
            </a:r>
            <a:endParaRPr b="0" lang="en-US" sz="1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 flow management: </a:t>
            </a:r>
            <a:r>
              <a:rPr b="0" lang="en-US" sz="2400" spc="-1" strike="noStrike">
                <a:solidFill>
                  <a:srgbClr val="000000"/>
                </a:solidFill>
                <a:latin typeface="Arial"/>
                <a:ea typeface="Times New Roman"/>
              </a:rPr>
              <a:t>Process of streamlining business procedures so documents can be moved easily and efficiently</a:t>
            </a:r>
            <a:endParaRPr b="0" lang="en-US" sz="24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designing Mortgage Processing in the United States</a:t>
            </a:r>
            <a:endParaRPr b="0" lang="en-US" sz="2400" spc="-1" strike="noStrike">
              <a:solidFill>
                <a:srgbClr val="000000"/>
              </a:solidFill>
              <a:latin typeface="Arial"/>
            </a:endParaRPr>
          </a:p>
        </p:txBody>
      </p:sp>
      <p:sp>
        <p:nvSpPr>
          <p:cNvPr id="79" name="Text Box 3"/>
          <p:cNvSpPr/>
          <p:nvPr/>
        </p:nvSpPr>
        <p:spPr>
          <a:xfrm>
            <a:off x="1800" y="47242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A</a:t>
            </a:r>
            <a:endParaRPr b="0" lang="en-US" sz="1800" spc="-1" strike="noStrike">
              <a:solidFill>
                <a:srgbClr val="000000"/>
              </a:solidFill>
              <a:latin typeface="Arial"/>
            </a:endParaRPr>
          </a:p>
        </p:txBody>
      </p:sp>
      <p:sp>
        <p:nvSpPr>
          <p:cNvPr id="80" name="Text Box 4"/>
          <p:cNvSpPr/>
          <p:nvPr/>
        </p:nvSpPr>
        <p:spPr>
          <a:xfrm>
            <a:off x="0" y="5014800"/>
            <a:ext cx="2514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y redesigning their mortgage processing systems and the mortgage application process, mortgage banks have been able to reduce the costs of processing the average mortgage from $3,000 to $1,000 and reduce the time of approval from six weeks to one week or less. Some banks are even preapproving mortgages and locking interest rates on the same day the customer  applies.</a:t>
            </a:r>
            <a:endParaRPr b="0" lang="en-US" sz="900" spc="-1" strike="noStrike">
              <a:solidFill>
                <a:srgbClr val="000000"/>
              </a:solidFill>
              <a:latin typeface="Arial"/>
            </a:endParaRPr>
          </a:p>
        </p:txBody>
      </p:sp>
      <p:sp>
        <p:nvSpPr>
          <p:cNvPr id="8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2" name="Object 8"/>
          <p:cNvGraphicFramePr/>
          <p:nvPr/>
        </p:nvGraphicFramePr>
        <p:xfrm>
          <a:off x="2438280" y="1828800"/>
          <a:ext cx="4484880" cy="4572000"/>
        </p:xfrm>
        <a:graphic>
          <a:graphicData uri="http://schemas.openxmlformats.org/presentationml/2006/ole">
            <p:oleObj r:id="rId2" spid="">
              <p:embed/>
              <p:pic>
                <p:nvPicPr>
                  <p:cNvPr id="83" name="Object 8" descr=""/>
                  <p:cNvPicPr/>
                  <p:nvPr/>
                </p:nvPicPr>
                <p:blipFill>
                  <a:blip r:embed="rId3"/>
                  <a:stretch/>
                </p:blipFill>
                <p:spPr>
                  <a:xfrm>
                    <a:off x="2438280" y="1828800"/>
                    <a:ext cx="4484880" cy="4572000"/>
                  </a:xfrm>
                  <a:prstGeom prst="rect">
                    <a:avLst/>
                  </a:prstGeom>
                  <a:ln w="0">
                    <a:noFill/>
                  </a:ln>
                </p:spPr>
              </p:pic>
            </p:oleObj>
          </a:graphicData>
        </a:graphic>
      </p:graphicFrame>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Redesigning Mortgage Processing in the United States</a:t>
            </a:r>
            <a:endParaRPr b="0" lang="en-US" sz="2400" spc="-1" strike="noStrike">
              <a:solidFill>
                <a:srgbClr val="000000"/>
              </a:solidFill>
              <a:latin typeface="Arial"/>
            </a:endParaRPr>
          </a:p>
        </p:txBody>
      </p:sp>
      <p:sp>
        <p:nvSpPr>
          <p:cNvPr id="8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B</a:t>
            </a:r>
            <a:endParaRPr b="0" lang="en-US" sz="1800" spc="-1" strike="noStrike">
              <a:solidFill>
                <a:srgbClr val="000000"/>
              </a:solidFill>
              <a:latin typeface="Arial"/>
            </a:endParaRPr>
          </a:p>
        </p:txBody>
      </p:sp>
      <p:sp>
        <p:nvSpPr>
          <p:cNvPr id="8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8" name="Object 8"/>
          <p:cNvGraphicFramePr/>
          <p:nvPr/>
        </p:nvGraphicFramePr>
        <p:xfrm>
          <a:off x="1932120" y="2209680"/>
          <a:ext cx="5383080" cy="3643560"/>
        </p:xfrm>
        <a:graphic>
          <a:graphicData uri="http://schemas.openxmlformats.org/presentationml/2006/ole">
            <p:oleObj r:id="rId2" spid="">
              <p:embed/>
              <p:pic>
                <p:nvPicPr>
                  <p:cNvPr id="89" name="Object 8" descr=""/>
                  <p:cNvPicPr/>
                  <p:nvPr/>
                </p:nvPicPr>
                <p:blipFill>
                  <a:blip r:embed="rId3"/>
                  <a:stretch/>
                </p:blipFill>
                <p:spPr>
                  <a:xfrm>
                    <a:off x="1932120" y="2209680"/>
                    <a:ext cx="5383080" cy="3643560"/>
                  </a:xfrm>
                  <a:prstGeom prst="rect">
                    <a:avLst/>
                  </a:prstGeom>
                  <a:ln w="0">
                    <a:noFill/>
                  </a:ln>
                </p:spPr>
              </p:pic>
            </p:oleObj>
          </a:graphicData>
        </a:graphic>
      </p:graphicFrame>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s in effective reengineering</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e which business processes should be improved</a:t>
            </a:r>
            <a:endParaRPr b="0" lang="en-US" sz="2000" spc="-1" strike="noStrike">
              <a:solidFill>
                <a:srgbClr val="000000"/>
              </a:solidFill>
              <a:latin typeface="Arial"/>
            </a:endParaRPr>
          </a:p>
          <a:p>
            <a:pPr lvl="2" marL="1200240" indent="-28584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st avoid becoming good at the wrong proces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how improving the right processes will help the firm execute its business strategy</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and measure performance of existing processes as a baselin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en with effective BPR, majority of reengineering projects do not achieve breakthrough gains because of inadequate change management</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09Z</dcterms:modified>
  <cp:revision>805</cp:revision>
  <dc:subject/>
  <dc:title>PowerPoint Presentation</dc:title>
</cp:coreProperties>
</file>